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9.gif" ContentType="image/gif"/>
  <Override PartName="/ppt/media/image8.wmf" ContentType="image/x-wmf"/>
  <Override PartName="/ppt/media/image12.wmf" ContentType="image/x-wmf"/>
  <Override PartName="/ppt/media/WtchLaff.wav" ContentType="audio/x-wav"/>
  <Override PartName="/ppt/media/image7.wmf" ContentType="image/x-wmf"/>
  <Override PartName="/ppt/media/hersheyb.wav" ContentType="audio/x-wav"/>
  <Override PartName="/ppt/media/image11.wmf" ContentType="image/x-wmf"/>
  <Override PartName="/ppt/media/image6.wmf" ContentType="image/x-wmf"/>
  <Override PartName="/ppt/media/image10.wmf" ContentType="image/x-wmf"/>
  <Override PartName="/ppt/media/image22.gif" ContentType="image/gif"/>
  <Override PartName="/ppt/media/image5.wmf" ContentType="image/x-wmf"/>
  <Override PartName="/ppt/media/image3.wmf" ContentType="image/x-wmf"/>
  <Override PartName="/ppt/media/image2.jpeg" ContentType="image/jpeg"/>
  <Override PartName="/ppt/media/AuldLang.wav" ContentType="audio/x-wav"/>
  <Override PartName="/ppt/media/image4.wmf" ContentType="image/x-wmf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gif" ContentType="image/gif"/>
  <Override PartName="/ppt/media/image16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4693-93EA-4BDF-B7EF-0C38EE7F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EBE-31FD-47FE-B518-17E66543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2DDC-603A-4504-9911-025D1DB2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53D5-23D8-4B69-933A-28B54766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98FE-D19D-473B-B2C8-D3F2076D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CE6F-714D-40AA-89E2-BA3671A2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EE01-8516-45F8-BE07-42FBBDAC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A723-B56D-45A5-BCF7-AB803CF1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027C-B25C-46A9-B184-54AD5145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CD77-774C-4512-A9B8-A3AC91A9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7C60-5406-42A5-B754-F39732E2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BE79-2981-400E-BAAC-083A232A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4368-288A-4E65-B820-D3BF943D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7294-0CB5-421E-9BE1-67CD13C1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5B6E-51A2-4EAE-914C-BFF7A61E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4820-F3C9-47AA-8DC8-51A3546B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2508-638C-4F15-9D8C-6319E2AE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3D02-68C8-44EE-86C3-C4A62678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25A2-96A3-414E-8823-639310D0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E709-1BEF-4036-9B0B-55CA9A8C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DD84-1872-46C0-A74B-F8947A8A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BF1B-20C0-45C1-AD9B-825C0A52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0155-22F8-4644-809F-3FB84C9E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D005-17CC-48D6-9BE2-236CAFEE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AEC5-F56A-4F9D-A477-2B453BD26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50E9-0F34-4F6D-BD8E-C9D3344E2EA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WtchLaff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audio" Target="../media/hersheyb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AuldLang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1447560"/>
            <a:ext cx="6019920" cy="23619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Matura MT Script Capitals"/>
              </a:rPr>
              <a:t>Traditions and </a:t>
            </a:r>
            <a:br>
              <a:rPr sz="4800"/>
            </a:br>
            <a:r>
              <a:rPr b="0" lang="et-EE" sz="4800" spc="-1" strike="noStrike">
                <a:solidFill>
                  <a:srgbClr val="000000"/>
                </a:solidFill>
                <a:latin typeface="Matura MT Script Capitals"/>
              </a:rPr>
              <a:t>Customs in Great Britain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The London Marathon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ne of the biggest marathons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Each year about 30,000 people start the race and about 25,000 fin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Raise money for ch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78360" y="1981080"/>
            <a:ext cx="26910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May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May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pagan festival to celebrate the end of winter and welcome sum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hildren dance around the maypole and sing so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57800" y="2219400"/>
            <a:ext cx="3733920" cy="3636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Chelsea Flower Show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Britain’s most important flower and garden sh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ousands of people come to see the prize flowers and specially built gard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03760" y="1981080"/>
            <a:ext cx="30402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Midsummer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June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ummer solst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stay up until midnight to welcome in midsummer 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When the fires die down, men run or jump through it to bring good lu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10280" y="2057400"/>
            <a:ext cx="1689120" cy="3349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105520" y="3809880"/>
            <a:ext cx="2103480" cy="1737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Trooping The Colour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second Saturday in Ju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elebrates the Queen’s official birth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Lots of marching, military music and the soldiers are dressed in colourful uni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248520" y="1981080"/>
            <a:ext cx="17524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Saint Swithin’s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July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aint Swithin was England’s Bishop of Winche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40 days of bad weather will follow if it rains on this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57800" y="1981080"/>
            <a:ext cx="193356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Wimbledon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last week of July and the first week of Ju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t Wimbledon in South-West Lond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ne of the four great world tennis championships and the only one which is played on gr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57800" y="2070000"/>
            <a:ext cx="3733920" cy="3935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Notting Hill Carnival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last weekend in Augu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akes place in Notting H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dress up in fabulous costu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teel bands play African and Caribbean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Harvest Festivals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Septe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Christian festi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t was held to say thank you to God for a good harv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hurches are decorated with fruit, vegetables and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257800" y="2055960"/>
            <a:ext cx="3733920" cy="3965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Halloween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ctober 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pagan festival celebrates the return of the souls that visit their former ho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dress up as witches, ghost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Houses are decorated with pumpk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257800" y="2090880"/>
            <a:ext cx="3733920" cy="3894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WtchLaff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000000"/>
                </a:solidFill>
                <a:latin typeface="Script MT Bold"/>
              </a:rPr>
              <a:t>Januar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Script MT Bold"/>
              </a:rPr>
              <a:t>New Year’s Day (Jan 1)-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the beginning of the new year. People make resolu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Script MT Bold"/>
              </a:rPr>
              <a:t>Twelfth Night (Jan 6)-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a party after the Christmas break and before the return to work in the fie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Guy Fawke’s Night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November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He was a terror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day marks the discovery of a plot to blow up Parliament in 16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make models of him and burn them on big bonfi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57800" y="2433600"/>
            <a:ext cx="3733920" cy="3208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Christmas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December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Religious ceremony commemorating the birth of Chr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hildren wake up early to find presents in their stock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raditional Christmas tree and din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4419720" cy="2962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hersheyb.wav"/>
      </p:stSnd>
    </p:sndAc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Boxing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December 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t is usually spent in front of the TV, recovering from Christmas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ervants go from house to house with collecting box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57800" y="2781360"/>
            <a:ext cx="373392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New Year’s Eve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December 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raditionally Scottish celeb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t midnight everybody joins hands and sings Auld Lang Sy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257800" y="2529000"/>
            <a:ext cx="3733920" cy="3019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AuldLang.wav"/>
      </p:stSnd>
    </p:sndAc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Crufts Dog Show 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Febru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Valuable dogs from all over the world compete in Birmingh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best dog gets the title Crufts Supreme Champ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56360" y="2092320"/>
            <a:ext cx="3735360" cy="3890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Saint Valentine’s Day 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February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Was started in the time of Roman Emp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s dedicated to St. Valent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send a card to someone they love, like, fancy or adm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899320" y="1981080"/>
            <a:ext cx="24494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The Boat Race 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M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rowing race between the universities of Oxford and Cambri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n the river Thames in London (7,2 k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257800" y="2735280"/>
            <a:ext cx="3733920" cy="2604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Pancake Day 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M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last day before L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ancake race-running while holding a pancake in a frying pan. Competitors have to throw it in the air and catch it again in the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57800" y="2494080"/>
            <a:ext cx="3733920" cy="3089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April Fool’s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pril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day of practical jok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You have to play the joke before 12 o’clock midday, otherwise the joke is on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57800" y="2211480"/>
            <a:ext cx="3733920" cy="3652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Good Fri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Friday before Ea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church marks the death of Chr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British usually eat hot-cross buns, which are marked on top with cro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83400" y="1981080"/>
            <a:ext cx="26812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Easter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Apr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celebration of the Resurrection of Chr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chools are closed for two wee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give each other chocolate eggs that are wrapped in silver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81640" y="1447920"/>
            <a:ext cx="35337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06:17:02Z</dcterms:created>
  <dc:creator>kasutaja15</dc:creator>
  <dc:description/>
  <dc:language>en-US</dc:language>
  <cp:lastModifiedBy>powerful</cp:lastModifiedBy>
  <dcterms:modified xsi:type="dcterms:W3CDTF">2012-04-17T16:07:37Z</dcterms:modified>
  <cp:revision>21</cp:revision>
  <dc:subject/>
  <dc:title>Traditions and  Customs in Great Britain</dc:title>
</cp:coreProperties>
</file>