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click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3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DB4B-F727-42CD-BFE2-E26B292DF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856C-D332-4FCD-9F7A-3E7EA9A31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AD8-6773-450C-904B-6D89FC1F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40F-2903-4FDD-A4F4-582A31E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1AA-BC5C-4254-BB4D-36C9FCBE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133-3D62-449F-A463-D17CBE21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B88-2C00-4DFD-88ED-D48B7CB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63F-8E05-4EEC-90FE-C8332CB8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331-0544-448D-9839-0558A82E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4A8-F70D-46DA-9102-1E0AB03B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CDD-DD32-46A6-9EAF-DD8BAFE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BF1-28E4-4521-AFE8-D9312C4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4B8-C71A-4AEC-8BCC-184450E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F90-1F2A-4733-B790-6F072CAE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38D-195F-4773-B4ED-10DDCE71C9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95724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2651040"/>
            <a:ext cx="772488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\LOCALS~1\Temp\Rar$DR03.578\компьютеры\komp11.gif"/>
          <p:cNvPicPr/>
          <p:nvPr/>
        </p:nvPicPr>
        <p:blipFill>
          <a:blip r:embed="rId1"/>
          <a:stretch/>
        </p:blipFill>
        <p:spPr>
          <a:xfrm>
            <a:off x="685800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785960" y="500040"/>
            <a:ext cx="5145120" cy="9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428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the words with necessary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00080" y="1968480"/>
            <a:ext cx="262116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4"/>
          <a:stretch/>
        </p:blipFill>
        <p:spPr>
          <a:xfrm>
            <a:off x="4621320" y="2755800"/>
            <a:ext cx="2724120" cy="1455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1090440" y="3541680"/>
            <a:ext cx="365292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6"/>
          <a:stretch/>
        </p:blipFill>
        <p:spPr>
          <a:xfrm>
            <a:off x="4486320" y="1962000"/>
            <a:ext cx="3882960" cy="1536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7"/>
          <a:stretch/>
        </p:blipFill>
        <p:spPr>
          <a:xfrm>
            <a:off x="1066680" y="2792520"/>
            <a:ext cx="28353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8"/>
          <a:stretch/>
        </p:blipFill>
        <p:spPr>
          <a:xfrm>
            <a:off x="4638600" y="3571920"/>
            <a:ext cx="386568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9"/>
          <a:stretch/>
        </p:blipFill>
        <p:spPr>
          <a:xfrm>
            <a:off x="1719360" y="1938240"/>
            <a:ext cx="128592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0"/>
          <a:stretch/>
        </p:blipFill>
        <p:spPr>
          <a:xfrm>
            <a:off x="1779480" y="2792520"/>
            <a:ext cx="1073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1"/>
          <a:stretch/>
        </p:blipFill>
        <p:spPr>
          <a:xfrm>
            <a:off x="1225440" y="3505320"/>
            <a:ext cx="131616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2"/>
          <a:stretch/>
        </p:blipFill>
        <p:spPr>
          <a:xfrm>
            <a:off x="2657520" y="3505320"/>
            <a:ext cx="1317600" cy="1530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3"/>
          <a:stretch/>
        </p:blipFill>
        <p:spPr>
          <a:xfrm>
            <a:off x="48639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1" descr=""/>
          <p:cNvPicPr/>
          <p:nvPr/>
        </p:nvPicPr>
        <p:blipFill>
          <a:blip r:embed="rId14"/>
          <a:stretch/>
        </p:blipFill>
        <p:spPr>
          <a:xfrm>
            <a:off x="62913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15"/>
          <a:stretch/>
        </p:blipFill>
        <p:spPr>
          <a:xfrm>
            <a:off x="679140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16"/>
          <a:stretch/>
        </p:blipFill>
        <p:spPr>
          <a:xfrm>
            <a:off x="6254640" y="2755800"/>
            <a:ext cx="1005120" cy="1455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17"/>
          <a:stretch/>
        </p:blipFill>
        <p:spPr>
          <a:xfrm>
            <a:off x="5864400" y="3571920"/>
            <a:ext cx="1304640" cy="15494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18"/>
          <a:stretch/>
        </p:blipFill>
        <p:spPr>
          <a:xfrm>
            <a:off x="7424640" y="3571920"/>
            <a:ext cx="12621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~1\admin\LOCALS~1\Temp\Rar$DR16.453\компьютеры\komp42.gif"/>
          <p:cNvPicPr/>
          <p:nvPr/>
        </p:nvPicPr>
        <p:blipFill>
          <a:blip r:embed="rId1"/>
          <a:stretch/>
        </p:blipFill>
        <p:spPr>
          <a:xfrm>
            <a:off x="8072280" y="428760"/>
            <a:ext cx="771840" cy="952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285840"/>
            <a:ext cx="521820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670040" y="1006560"/>
            <a:ext cx="5979960" cy="1528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85960" y="2714760"/>
            <a:ext cx="3143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500800" y="2703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6. 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7.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8.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9.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10. De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~1\admin\LOCALS~1\Temp\Rar$DR10.281\компьютеры\komp28.gif"/>
          <p:cNvPicPr/>
          <p:nvPr/>
        </p:nvPicPr>
        <p:blipFill>
          <a:blip r:embed="rId1"/>
          <a:stretch/>
        </p:blipFill>
        <p:spPr>
          <a:xfrm>
            <a:off x="7858080" y="357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2646360" y="212760"/>
            <a:ext cx="421164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1139760" y="1542960"/>
            <a:ext cx="77184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426960"/>
            <a:ext cx="471816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1438200"/>
            <a:ext cx="6321600" cy="1530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571760" y="285768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714920" y="292896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rub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iction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p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wind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26:00Z</dcterms:created>
  <dc:creator>Информатика-администратор</dc:creator>
  <dc:description/>
  <dc:language>en-US</dc:language>
  <cp:lastModifiedBy>user</cp:lastModifiedBy>
  <dcterms:modified xsi:type="dcterms:W3CDTF">2012-04-18T08:48:12Z</dcterms:modified>
  <cp:revision>13</cp:revision>
  <dc:subject/>
  <dc:title>Слайд 1</dc:title>
</cp:coreProperties>
</file>