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26E-6D63-4B3E-9279-DABF27B9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061-EBB6-435F-B4F9-86A41B62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288-9E2D-4CF1-805C-D1C5B801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6F1-DDE7-4132-8E11-29975129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1125-FB0C-4080-855C-D0CF2EC5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5B65-6135-463D-938A-6A1B1792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EC67-7815-41F8-AB0A-6677B527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82B4-E144-46B4-8F30-35FA2519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270A-AE51-4497-9F72-3A45A56B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5A72-E48E-46CA-9FAE-D55CC025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3670-79F0-4802-B17D-EB0CC96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D31-D835-40EA-B936-B5C3C052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FA6-5B5D-47C0-9911-4A2D9EB3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DECD-2B12-4DB7-9452-38028A6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B06D-8D7E-432C-AB4F-7112040C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3FE0-4B31-4495-878D-A9824EB3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1F97-A753-41C4-8BC6-74704F90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53E-1FB7-49DF-82EF-A0D852E2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A1E-5622-4D5C-8F6F-1F326666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A9A-4189-42B0-8E3D-37F864DA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503-4D02-4396-B057-2A91FD9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87D-D9FA-4412-A289-DCA21A1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F09-54BE-4B1C-9913-7095F027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924-A881-42BF-AF6A-376B6011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D988-5939-4318-9BAF-DC35AEE4993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5297-2E4B-4360-919D-B0BE185D710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Present Perfect T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стоящее совершен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рица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91636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211640" y="314172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7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казатели времен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ready (y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ntly (latel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n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ev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показателя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, результат не важен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ster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Continuou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все еще длится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ing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now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ьте на вопро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обознач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 Дайте пример употреб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образуе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троится общий вопрос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жите показатели времени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отличаю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t Simpl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Обозначает действие, которо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завершилось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в прошлом, но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меет отношение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 настоящему моменту. Результат этого действия налиц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: Mum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as cook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ма приготовила ужин (результат – ужин гото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2920" y="256500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Arial"/>
              </a:rPr>
              <a:t>Have/has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5640" y="378936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ve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question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50864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s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USA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066920" y="2349360"/>
            <a:ext cx="1152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9312200">
            <a:off x="3924000" y="321264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908000" y="35002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08720" y="3500280"/>
            <a:ext cx="21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3500000">
            <a:off x="5017320" y="320112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65440" y="4005360"/>
            <a:ext cx="79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o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268360" y="4005360"/>
            <a:ext cx="129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nsw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49800" y="4005360"/>
            <a:ext cx="7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e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64000" y="400536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e – saw –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see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403280" y="3141720"/>
            <a:ext cx="619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23600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443640" y="314172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a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1708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o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700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20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56000" y="3213000"/>
            <a:ext cx="20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0800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459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500720" y="3213000"/>
            <a:ext cx="21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40328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516720" y="3213000"/>
            <a:ext cx="22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Arial"/>
              </a:rPr>
              <a:t>or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ha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dinn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5663E-006 L -0.03402 -0.05667 C -0.04097 -0.06986 -0.05173 -0.07633 -0.06267 -0.07633 C -0.07517 -0.07633 -0.08541 -0.06986 -0.09236 -0.05667 L -0.12604 -2.45663E-006 E">
                                      <p:cBhvr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08000" y="3213000"/>
            <a:ext cx="208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6036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451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52720" y="321300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5564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867280" y="321300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n’t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68360" y="4005360"/>
            <a:ext cx="100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260360" y="4005360"/>
            <a:ext cx="12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n’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443640" y="400536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132000" y="400536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755640" y="400536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48360" y="400536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 А.В.</cp:lastModifiedBy>
  <dcterms:modified xsi:type="dcterms:W3CDTF">2009-09-23T03:54:37Z</dcterms:modified>
  <cp:revision>18</cp:revision>
  <dc:subject/>
  <dc:title>The Present Perfect Tense</dc:title>
</cp:coreProperties>
</file>