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gif" ContentType="image/gif"/>
  <Override PartName="/ppt/media/image4.jpeg" ContentType="image/jpeg"/>
  <Override PartName="/ppt/media/image8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9.wmf" ContentType="image/x-wmf"/>
  <Override PartName="/ppt/media/image7.gif" ContentType="image/gif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A62D-E0CC-4AF6-A8C2-22016DA173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3676-9399-4F04-9097-81E36AB793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C545-553B-4276-904E-02C605716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770B-74CE-47AF-AA5F-2CC6C51B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F3DB-6632-4823-8CA6-B7C5A01C6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E486-3FAE-49D4-834F-5FAA59AB6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E29D-6866-47B2-A0CE-DC09AFC9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AD4E-C110-4C99-824C-FD01D43D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ECC2-89FE-435E-9B89-BA589A18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64C1-19C9-4863-9AE5-9A4B5AA5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171E-A1D0-4BA2-913B-9DAC7F3B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DA3C-D93B-49E9-B829-31D56D21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DC70-F98F-4B04-BCDF-CC61531E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D8B8-2217-404B-9BA9-3A22DFF8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53CC-CA08-47EC-92D8-EA9947ECEA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3" descr=""/>
          <p:cNvPicPr/>
          <p:nvPr/>
        </p:nvPicPr>
        <p:blipFill>
          <a:blip r:embed="rId1"/>
          <a:stretch/>
        </p:blipFill>
        <p:spPr>
          <a:xfrm>
            <a:off x="1011240" y="23760"/>
            <a:ext cx="6651720" cy="1665360"/>
          </a:xfrm>
          <a:prstGeom prst="rect">
            <a:avLst/>
          </a:prstGeom>
          <a:ln w="0">
            <a:noFill/>
          </a:ln>
        </p:spPr>
      </p:pic>
      <p:sp>
        <p:nvSpPr>
          <p:cNvPr id="49" name="Волна 15"/>
          <p:cNvSpPr/>
          <p:nvPr/>
        </p:nvSpPr>
        <p:spPr>
          <a:xfrm>
            <a:off x="3714840" y="4429080"/>
            <a:ext cx="1785960" cy="928800"/>
          </a:xfrm>
          <a:custGeom>
            <a:avLst/>
            <a:gdLst>
              <a:gd name="textAreaLeft" fmla="*/ 0 w 1785960"/>
              <a:gd name="textAreaRight" fmla="*/ 1786320 w 1785960"/>
              <a:gd name="textAreaTop" fmla="*/ 232200 h 928800"/>
              <a:gd name="textAreaBottom" fmla="*/ 696600 h 9288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2f2f2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Calibri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Волна 16"/>
          <p:cNvSpPr/>
          <p:nvPr/>
        </p:nvSpPr>
        <p:spPr>
          <a:xfrm>
            <a:off x="1143000" y="1571760"/>
            <a:ext cx="2428920" cy="1000080"/>
          </a:xfrm>
          <a:custGeom>
            <a:avLst/>
            <a:gdLst>
              <a:gd name="textAreaLeft" fmla="*/ 0 w 2428920"/>
              <a:gd name="textAreaRight" fmla="*/ 2429280 w 2428920"/>
              <a:gd name="textAreaTop" fmla="*/ 249840 h 1000080"/>
              <a:gd name="textAreaBottom" fmla="*/ 75024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 front 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Волна 13"/>
          <p:cNvSpPr/>
          <p:nvPr/>
        </p:nvSpPr>
        <p:spPr>
          <a:xfrm>
            <a:off x="1285920" y="2714760"/>
            <a:ext cx="2500200" cy="1000080"/>
          </a:xfrm>
          <a:custGeom>
            <a:avLst/>
            <a:gdLst>
              <a:gd name="textAreaLeft" fmla="*/ 0 w 2500200"/>
              <a:gd name="textAreaRight" fmla="*/ 2500560 w 2500200"/>
              <a:gd name="textAreaTop" fmla="*/ 249840 h 1000080"/>
              <a:gd name="textAreaBottom" fmla="*/ 75024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Волна 14"/>
          <p:cNvSpPr/>
          <p:nvPr/>
        </p:nvSpPr>
        <p:spPr>
          <a:xfrm>
            <a:off x="5214960" y="2857680"/>
            <a:ext cx="3000240" cy="857160"/>
          </a:xfrm>
          <a:custGeom>
            <a:avLst/>
            <a:gdLst>
              <a:gd name="textAreaLeft" fmla="*/ 0 w 3000240"/>
              <a:gd name="textAreaRight" fmla="*/ 3000600 w 300024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etw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Волна 18"/>
          <p:cNvSpPr/>
          <p:nvPr/>
        </p:nvSpPr>
        <p:spPr>
          <a:xfrm>
            <a:off x="714240" y="4286160"/>
            <a:ext cx="1928880" cy="1143000"/>
          </a:xfrm>
          <a:custGeom>
            <a:avLst/>
            <a:gdLst>
              <a:gd name="textAreaLeft" fmla="*/ 0 w 1928880"/>
              <a:gd name="textAreaRight" fmla="*/ 1929240 w 192888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Calibri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Волна 19"/>
          <p:cNvSpPr/>
          <p:nvPr/>
        </p:nvSpPr>
        <p:spPr>
          <a:xfrm>
            <a:off x="6286680" y="4071960"/>
            <a:ext cx="2143080" cy="1214280"/>
          </a:xfrm>
          <a:custGeom>
            <a:avLst/>
            <a:gdLst>
              <a:gd name="textAreaLeft" fmla="*/ 0 w 2143080"/>
              <a:gd name="textAreaRight" fmla="*/ 2143440 w 2143080"/>
              <a:gd name="textAreaTop" fmla="*/ 303480 h 1214280"/>
              <a:gd name="textAreaBottom" fmla="*/ 91080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eh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Волна 20"/>
          <p:cNvSpPr/>
          <p:nvPr/>
        </p:nvSpPr>
        <p:spPr>
          <a:xfrm>
            <a:off x="571680" y="5572080"/>
            <a:ext cx="2786040" cy="1071720"/>
          </a:xfrm>
          <a:custGeom>
            <a:avLst/>
            <a:gdLst>
              <a:gd name="textAreaLeft" fmla="*/ 0 w 2786040"/>
              <a:gd name="textAreaRight" fmla="*/ 2786400 w 2786040"/>
              <a:gd name="textAreaTop" fmla="*/ 267840 h 1071720"/>
              <a:gd name="textAreaBottom" fmla="*/ 8038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Волна 21"/>
          <p:cNvSpPr/>
          <p:nvPr/>
        </p:nvSpPr>
        <p:spPr>
          <a:xfrm>
            <a:off x="5857920" y="5500800"/>
            <a:ext cx="2428920" cy="1214280"/>
          </a:xfrm>
          <a:custGeom>
            <a:avLst/>
            <a:gdLst>
              <a:gd name="textAreaLeft" fmla="*/ 0 w 2428920"/>
              <a:gd name="textAreaRight" fmla="*/ 2429280 w 2428920"/>
              <a:gd name="textAreaTop" fmla="*/ 303480 h 1214280"/>
              <a:gd name="textAreaBottom" fmla="*/ 91080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3"/>
          <p:cNvSpPr/>
          <p:nvPr/>
        </p:nvSpPr>
        <p:spPr>
          <a:xfrm>
            <a:off x="500040" y="5786280"/>
            <a:ext cx="285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n the right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4"/>
          <p:cNvSpPr/>
          <p:nvPr/>
        </p:nvSpPr>
        <p:spPr>
          <a:xfrm>
            <a:off x="5786280" y="571500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n the left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Волна 26"/>
          <p:cNvSpPr/>
          <p:nvPr/>
        </p:nvSpPr>
        <p:spPr>
          <a:xfrm>
            <a:off x="5143680" y="1500120"/>
            <a:ext cx="3000240" cy="1214640"/>
          </a:xfrm>
          <a:custGeom>
            <a:avLst/>
            <a:gdLst>
              <a:gd name="textAreaLeft" fmla="*/ 0 w 3000240"/>
              <a:gd name="textAreaRight" fmla="*/ 3000600 w 3000240"/>
              <a:gd name="textAreaTop" fmla="*/ 303480 h 1214640"/>
              <a:gd name="textAreaBottom" fmla="*/ 9111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7"/>
          <p:cNvSpPr/>
          <p:nvPr/>
        </p:nvSpPr>
        <p:spPr>
          <a:xfrm>
            <a:off x="5143680" y="1714680"/>
            <a:ext cx="43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the middle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Волна 28"/>
          <p:cNvSpPr/>
          <p:nvPr/>
        </p:nvSpPr>
        <p:spPr>
          <a:xfrm>
            <a:off x="4000680" y="5786280"/>
            <a:ext cx="1428480" cy="928800"/>
          </a:xfrm>
          <a:custGeom>
            <a:avLst/>
            <a:gdLst>
              <a:gd name="textAreaLeft" fmla="*/ 0 w 1428480"/>
              <a:gd name="textAreaRight" fmla="*/ 1428840 w 1428480"/>
              <a:gd name="textAreaTop" fmla="*/ 232200 h 928800"/>
              <a:gd name="textAreaBottom" fmla="*/ 696600 h 9288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9"/>
          <p:cNvSpPr/>
          <p:nvPr/>
        </p:nvSpPr>
        <p:spPr>
          <a:xfrm>
            <a:off x="4214880" y="57862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4"/>
          <p:cNvSpPr/>
          <p:nvPr/>
        </p:nvSpPr>
        <p:spPr>
          <a:xfrm>
            <a:off x="4075560" y="2857680"/>
            <a:ext cx="657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446400" y="5786280"/>
            <a:ext cx="7663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cat is.…....…..the </a:t>
            </a:r>
            <a:r>
              <a:rPr b="1" lang="en-US" sz="4800" spc="-1" strike="noStrike">
                <a:solidFill>
                  <a:srgbClr val="0d0d0d"/>
                </a:solidFill>
                <a:latin typeface="Calibri"/>
              </a:rPr>
              <a:t>basket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C:\Documents and Settings\Admin\Рабочий стол\cat190.gif"/>
          <p:cNvPicPr/>
          <p:nvPr/>
        </p:nvPicPr>
        <p:blipFill>
          <a:blip r:embed="rId1"/>
          <a:stretch/>
        </p:blipFill>
        <p:spPr>
          <a:xfrm>
            <a:off x="2214720" y="771480"/>
            <a:ext cx="4857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0.06476 L -0.01302 0.40056 E">
                                      <p:cBhvr>
                                        <p:cTn id="54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Documents and Settings\Admin\Local Settings\Temporary Internet Files\Content.IE5\GEDWP2E8\MCj04323230000[1]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6"/>
          <p:cNvSpPr/>
          <p:nvPr/>
        </p:nvSpPr>
        <p:spPr>
          <a:xfrm>
            <a:off x="0" y="5929200"/>
            <a:ext cx="907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cat is.…....……………………the stree</a:t>
            </a:r>
            <a:r>
              <a:rPr b="1" lang="en-US" sz="4400" spc="-1" strike="noStrike">
                <a:solidFill>
                  <a:srgbClr val="0d0d0d"/>
                </a:solidFill>
                <a:latin typeface="Calibri"/>
              </a:rPr>
              <a:t>t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660400" y="4286160"/>
            <a:ext cx="3862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in the middle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C:\Documents and Settings\Admin\Рабочий стол\cat88.gif"/>
          <p:cNvPicPr/>
          <p:nvPr/>
        </p:nvPicPr>
        <p:blipFill>
          <a:blip r:embed="rId2"/>
          <a:stretch/>
        </p:blipFill>
        <p:spPr>
          <a:xfrm>
            <a:off x="2071800" y="2928960"/>
            <a:ext cx="485748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0.02868 L -0.00208 0.23867 E">
                                      <p:cBhvr>
                                        <p:cTn id="60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C:\Documents and Settings\Admin\Рабочий стол\animated_thanks_44_thumb.gif"/>
          <p:cNvPicPr/>
          <p:nvPr/>
        </p:nvPicPr>
        <p:blipFill>
          <a:blip r:embed="rId1"/>
          <a:stretch/>
        </p:blipFill>
        <p:spPr>
          <a:xfrm>
            <a:off x="1785960" y="500040"/>
            <a:ext cx="564372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9"/>
          <p:cNvSpPr/>
          <p:nvPr/>
        </p:nvSpPr>
        <p:spPr>
          <a:xfrm>
            <a:off x="1643040" y="5643720"/>
            <a:ext cx="607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cat is…….the b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3786120" y="4071960"/>
            <a:ext cx="107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C:\Program Files\Microsoft Office\MEDIA\CAGCAT10\j0299763.wmf"/>
          <p:cNvPicPr/>
          <p:nvPr/>
        </p:nvPicPr>
        <p:blipFill>
          <a:blip r:embed="rId1"/>
          <a:stretch/>
        </p:blipFill>
        <p:spPr>
          <a:xfrm>
            <a:off x="2000160" y="2571840"/>
            <a:ext cx="4214880" cy="3214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C:\Documents and Settings\Admin\Рабочий стол\cat198.gif"/>
          <p:cNvPicPr/>
          <p:nvPr/>
        </p:nvPicPr>
        <p:blipFill>
          <a:blip r:embed="rId2"/>
          <a:stretch/>
        </p:blipFill>
        <p:spPr>
          <a:xfrm>
            <a:off x="2857680" y="0"/>
            <a:ext cx="36432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62535E-007 L 0.03524 0.2167 E">
                                      <p:cBhvr>
                                        <p:cTn id="6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5"/>
          <p:cNvSpPr/>
          <p:nvPr/>
        </p:nvSpPr>
        <p:spPr>
          <a:xfrm>
            <a:off x="0" y="5857920"/>
            <a:ext cx="950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cat is………....………….of the b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2571840" y="3071880"/>
            <a:ext cx="550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on the left o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Program Files\Microsoft Office\MEDIA\CAGCAT10\j0299763.wmf"/>
          <p:cNvPicPr/>
          <p:nvPr/>
        </p:nvPicPr>
        <p:blipFill>
          <a:blip r:embed="rId1"/>
          <a:stretch/>
        </p:blipFill>
        <p:spPr>
          <a:xfrm>
            <a:off x="4214880" y="2000160"/>
            <a:ext cx="3714840" cy="3057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C:\Documents and Settings\Admin\Рабочий стол\cat198.gif"/>
          <p:cNvPicPr/>
          <p:nvPr/>
        </p:nvPicPr>
        <p:blipFill>
          <a:blip r:embed="rId2"/>
          <a:stretch/>
        </p:blipFill>
        <p:spPr>
          <a:xfrm>
            <a:off x="1928880" y="1071720"/>
            <a:ext cx="340992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49584E-006 L 0.01562 0.40912 E">
                                      <p:cBhvr>
                                        <p:cTn id="12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3"/>
          <p:cNvSpPr/>
          <p:nvPr/>
        </p:nvSpPr>
        <p:spPr>
          <a:xfrm>
            <a:off x="2714760" y="3000240"/>
            <a:ext cx="442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on the right o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5"/>
          <p:cNvSpPr/>
          <p:nvPr/>
        </p:nvSpPr>
        <p:spPr>
          <a:xfrm>
            <a:off x="131040" y="5857920"/>
            <a:ext cx="913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cat is………....…………..of the b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C:\Documents and Settings\Admin\Рабочий стол\cat198.gif"/>
          <p:cNvPicPr/>
          <p:nvPr/>
        </p:nvPicPr>
        <p:blipFill>
          <a:blip r:embed="rId1"/>
          <a:stretch/>
        </p:blipFill>
        <p:spPr>
          <a:xfrm>
            <a:off x="4929120" y="214200"/>
            <a:ext cx="3643560" cy="4789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Program Files\Microsoft Office\MEDIA\CAGCAT10\j0299763.wmf"/>
          <p:cNvPicPr/>
          <p:nvPr/>
        </p:nvPicPr>
        <p:blipFill>
          <a:blip r:embed="rId2"/>
          <a:stretch/>
        </p:blipFill>
        <p:spPr>
          <a:xfrm>
            <a:off x="1071720" y="1571760"/>
            <a:ext cx="425592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9 0.05505 L -0.00469 0.40125 E">
                                      <p:cBhvr>
                                        <p:cTn id="18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4"/>
          <p:cNvSpPr/>
          <p:nvPr/>
        </p:nvSpPr>
        <p:spPr>
          <a:xfrm>
            <a:off x="3286080" y="3214800"/>
            <a:ext cx="257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un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C:\Documents and Settings\Admin\Local Settings\Temporary Internet Files\Content.IE5\3LK7GO01\MPj04244120000[1].jpg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600084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10"/>
          <p:cNvSpPr/>
          <p:nvPr/>
        </p:nvSpPr>
        <p:spPr>
          <a:xfrm>
            <a:off x="0" y="5786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cat is…....………….. the tab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3"/>
          <p:cNvSpPr/>
          <p:nvPr/>
        </p:nvSpPr>
        <p:spPr>
          <a:xfrm>
            <a:off x="3643200" y="4143240"/>
            <a:ext cx="271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un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" descr="C:\Documents and Settings\Admin\Рабочий стол\cat198.gif"/>
          <p:cNvPicPr/>
          <p:nvPr/>
        </p:nvPicPr>
        <p:blipFill>
          <a:blip r:embed="rId2"/>
          <a:stretch/>
        </p:blipFill>
        <p:spPr>
          <a:xfrm>
            <a:off x="3286080" y="3000240"/>
            <a:ext cx="292896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98705E-006 L -0.02968 0.22409 E">
                                      <p:cBhvr>
                                        <p:cTn id="24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2" descr="C:\Documents and Settings\Admin\Рабочий стол\cat50.gif"/>
          <p:cNvPicPr/>
          <p:nvPr/>
        </p:nvPicPr>
        <p:blipFill>
          <a:blip r:embed="rId1"/>
          <a:stretch/>
        </p:blipFill>
        <p:spPr>
          <a:xfrm>
            <a:off x="3571920" y="0"/>
            <a:ext cx="2500200" cy="336060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3429000" y="3571920"/>
            <a:ext cx="292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abo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C:\Program Files\Microsoft Office\MEDIA\CAGCAT10\j0299763.wmf"/>
          <p:cNvPicPr/>
          <p:nvPr/>
        </p:nvPicPr>
        <p:blipFill>
          <a:blip r:embed="rId2"/>
          <a:stretch/>
        </p:blipFill>
        <p:spPr>
          <a:xfrm>
            <a:off x="2571840" y="3357720"/>
            <a:ext cx="3357360" cy="276192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8"/>
          <p:cNvSpPr/>
          <p:nvPr/>
        </p:nvSpPr>
        <p:spPr>
          <a:xfrm>
            <a:off x="673560" y="6027840"/>
            <a:ext cx="698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cat is………....… the b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78 0.00324 L -0.00833 0.34204 E">
                                      <p:cBhvr>
                                        <p:cTn id="30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0" descr="C:\Documents and Settings\Admin\Рабочий стол\cat198.gif"/>
          <p:cNvPicPr/>
          <p:nvPr/>
        </p:nvPicPr>
        <p:blipFill>
          <a:blip r:embed="rId1"/>
          <a:stretch/>
        </p:blipFill>
        <p:spPr>
          <a:xfrm>
            <a:off x="2857680" y="0"/>
            <a:ext cx="3922560" cy="5157720"/>
          </a:xfrm>
          <a:prstGeom prst="rect">
            <a:avLst/>
          </a:prstGeom>
          <a:ln w="0">
            <a:noFill/>
          </a:ln>
        </p:spPr>
      </p:pic>
      <p:sp>
        <p:nvSpPr>
          <p:cNvPr id="85" name="TextBox 3"/>
          <p:cNvSpPr/>
          <p:nvPr/>
        </p:nvSpPr>
        <p:spPr>
          <a:xfrm>
            <a:off x="3643200" y="421488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behi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4"/>
          <p:cNvSpPr/>
          <p:nvPr/>
        </p:nvSpPr>
        <p:spPr>
          <a:xfrm>
            <a:off x="1173600" y="5857920"/>
            <a:ext cx="698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cat is………....… the b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C:\Program Files\Microsoft Office\MEDIA\CAGCAT10\j0299763.wmf"/>
          <p:cNvPicPr/>
          <p:nvPr/>
        </p:nvPicPr>
        <p:blipFill>
          <a:blip r:embed="rId2"/>
          <a:stretch/>
        </p:blipFill>
        <p:spPr>
          <a:xfrm>
            <a:off x="2428920" y="2143080"/>
            <a:ext cx="457200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11 0.05643 L 0.01892 0.23474 E">
                                      <p:cBhvr>
                                        <p:cTn id="36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4"/>
          <p:cNvSpPr/>
          <p:nvPr/>
        </p:nvSpPr>
        <p:spPr>
          <a:xfrm>
            <a:off x="3929040" y="3143160"/>
            <a:ext cx="385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in front o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5"/>
          <p:cNvSpPr/>
          <p:nvPr/>
        </p:nvSpPr>
        <p:spPr>
          <a:xfrm>
            <a:off x="857160" y="6027840"/>
            <a:ext cx="869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cat is..………....….…the b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C:\Program Files\Microsoft Office\MEDIA\CAGCAT10\j0299763.wmf"/>
          <p:cNvPicPr/>
          <p:nvPr/>
        </p:nvPicPr>
        <p:blipFill>
          <a:blip r:embed="rId1"/>
          <a:stretch/>
        </p:blipFill>
        <p:spPr>
          <a:xfrm>
            <a:off x="2143080" y="1357200"/>
            <a:ext cx="5313240" cy="4372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C:\Documents and Settings\Admin\Рабочий стол\cat198.gif"/>
          <p:cNvPicPr/>
          <p:nvPr/>
        </p:nvPicPr>
        <p:blipFill>
          <a:blip r:embed="rId2"/>
          <a:stretch/>
        </p:blipFill>
        <p:spPr>
          <a:xfrm>
            <a:off x="3786120" y="1000080"/>
            <a:ext cx="367200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58 0.02313 L -0.04618 0.40079 E">
                                      <p:cBhvr>
                                        <p:cTn id="42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C:\Documents and Settings\Admin\Рабочий стол\dog73.gif"/>
          <p:cNvPicPr/>
          <p:nvPr/>
        </p:nvPicPr>
        <p:blipFill>
          <a:blip r:embed="rId1"/>
          <a:stretch/>
        </p:blipFill>
        <p:spPr>
          <a:xfrm>
            <a:off x="4857840" y="2000160"/>
            <a:ext cx="3733560" cy="360216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7"/>
          <p:cNvSpPr/>
          <p:nvPr/>
        </p:nvSpPr>
        <p:spPr>
          <a:xfrm>
            <a:off x="2794320" y="3643200"/>
            <a:ext cx="255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betwee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5"/>
          <p:cNvSpPr/>
          <p:nvPr/>
        </p:nvSpPr>
        <p:spPr>
          <a:xfrm>
            <a:off x="527400" y="5857920"/>
            <a:ext cx="792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cat is..………....…..the dog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C:\Documents and Settings\Admin\Рабочий стол\cat198.gif"/>
          <p:cNvPicPr/>
          <p:nvPr/>
        </p:nvPicPr>
        <p:blipFill>
          <a:blip r:embed="rId2"/>
          <a:stretch/>
        </p:blipFill>
        <p:spPr>
          <a:xfrm>
            <a:off x="3000240" y="1357200"/>
            <a:ext cx="3235320" cy="4254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:\Documents and Settings\Admin\Рабочий стол\dog78.gif"/>
          <p:cNvPicPr/>
          <p:nvPr/>
        </p:nvPicPr>
        <p:blipFill>
          <a:blip r:embed="rId3"/>
          <a:stretch/>
        </p:blipFill>
        <p:spPr>
          <a:xfrm>
            <a:off x="-142920" y="1143000"/>
            <a:ext cx="40654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486 0.06614 L 0.03976 0.31799 E">
                                      <p:cBhvr>
                                        <p:cTn id="48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18T07:56:05Z</dcterms:modified>
  <cp:revision>36</cp:revision>
  <dc:subject/>
  <dc:title>Слайд 1</dc:title>
</cp:coreProperties>
</file>