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8161-E368-441B-BD01-8BB9482378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9892-4540-4954-98F6-CAE7841550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4C55-924B-4A25-9A0C-FB5C477E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883B-DAA9-4EB6-848F-F0F78E19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52B8-2459-427D-8E91-DD193DD3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E703-CE93-4F9F-A1CA-6E1ACD562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FCF4-A3E9-4EDE-BB11-0C0803A9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5849-98BF-40A0-AAA3-387B527B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0157-0A15-49AA-A24E-4070CD7F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93B7-2F1C-4FB9-9942-77D49B8A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BB2F-AFB0-47BF-AB62-488048FE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B33B-2A2F-49E3-89D6-0331143E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95D0-34B9-40E3-AB28-F4242FEE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3EE1-F5E0-46E6-8162-B6EB41A4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B7F1-48EB-40AA-B543-AD714A45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FFE4-D815-4042-AEDD-4D4519CF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C3F0-8992-4579-8C2A-41F81923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9181-C658-4E77-B21E-46FBDB433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30AB-32F8-4C96-9989-C328BF31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19DD7-41D4-4578-82B2-8E0E7E1D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D51B6-BCFE-4805-B282-F4858575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95B72-DD0C-4F2F-8C59-C1E599E1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33B7A-E6B0-4A3F-95AA-64F7F9F8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02668-D57A-46ED-8A95-2304620E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2A08-D92F-4F60-8041-379BEB33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7EAE6-E87C-4FC6-B293-37B99ABE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20766-7FBC-47D6-A327-AAA4AD8A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3A457-0405-4AB9-82A6-43A2F007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061BA-F2FC-470C-B3EA-31EE89DF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C0902-0EDE-49EC-9294-52A79C5B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4494D-2F5A-4EF8-B7C8-586D8E39D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A659E-AE77-4A60-8A50-767803DB8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367D8-49F8-4022-A782-280F5607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45611-C989-460A-9721-6C4DC2B6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03CA5-6DFD-40E6-8004-ABD08345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064E-712C-44DD-9D44-3D1D329E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2CE55-D5C2-4284-BFA6-12396498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B30C2-5660-4CF3-B9C4-6F87789D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E870D-522E-4EA8-A4D7-9EBD2C9A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8EFA6-297A-46FA-9A03-7C81FE0F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F5F5D-1EBA-4F69-947E-44F9CCA5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3393D-E4D0-40F5-BC7E-8F073293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27BDA-C616-44FA-8810-5D18B233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1C717-36DA-4857-90BC-BF4C0B17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829B4-C9F0-4D8A-96B3-8B5534A49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6A64-9D81-472B-A290-4672A7CD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9BCE-B65B-489D-A0AC-629AA223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E83E-69BC-4051-81C6-85A4A4B5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ABF6-FEF4-4747-AA13-DA009BD8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4ACA-55B7-4061-8DF8-DF18989E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B46B-5C94-405F-8D0D-8419F2F68AC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A12B-DBF5-42FE-A445-1259397C536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E1A1-EBDE-419A-8BB4-31005CC3BCA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6B78-954F-4613-9B1F-1874DC8778B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927000" y="-103320"/>
            <a:ext cx="8197920" cy="31878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0040" y="4929120"/>
            <a:ext cx="8229600" cy="1285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FEED THE C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Picture 2" descr="C:\Documents and Settings\user\Мои документы\feed_the_cat-CT.gif"/>
          <p:cNvPicPr/>
          <p:nvPr/>
        </p:nvPicPr>
        <p:blipFill>
          <a:blip r:embed="rId1"/>
          <a:stretch/>
        </p:blipFill>
        <p:spPr>
          <a:xfrm>
            <a:off x="1928880" y="1071720"/>
            <a:ext cx="550080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714920"/>
            <a:ext cx="8229600" cy="10000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GET DRESS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Picture 2" descr="C:\Documents and Settings\user\Мои документы\get_dressed-CT.gif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214720" y="1071720"/>
            <a:ext cx="492912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714920"/>
            <a:ext cx="8229600" cy="1285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SWEEP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Picture 2" descr="C:\Documents and Settings\user\Мои документы\sweep-CT.gif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571840" y="857160"/>
            <a:ext cx="38574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5143680"/>
            <a:ext cx="8229600" cy="7142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STUDY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Picture 2" descr="C:\Documents and Settings\user\Мои документы\study-CT.gif"/>
          <p:cNvPicPr/>
          <p:nvPr/>
        </p:nvPicPr>
        <p:blipFill>
          <a:blip r:embed="rId1"/>
          <a:stretch/>
        </p:blipFill>
        <p:spPr>
          <a:xfrm>
            <a:off x="2928960" y="1143000"/>
            <a:ext cx="3500280" cy="3335400"/>
          </a:xfrm>
          <a:prstGeom prst="rect">
            <a:avLst/>
          </a:prstGeom>
          <a:ln w="25560">
            <a:solidFill>
              <a:srgbClr val="08509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929120"/>
            <a:ext cx="8229600" cy="9288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TAKE A BAT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Picture 2" descr="C:\Documents and Settings\user\Мои документы\take_a_bath-CT.gif"/>
          <p:cNvPicPr/>
          <p:nvPr/>
        </p:nvPicPr>
        <p:blipFill>
          <a:blip r:embed="rId1"/>
          <a:stretch/>
        </p:blipFill>
        <p:spPr>
          <a:xfrm>
            <a:off x="2428920" y="1500120"/>
            <a:ext cx="407196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000400"/>
            <a:ext cx="8229600" cy="1143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WASH THE DISHE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Picture 2" descr="C:\Documents and Settings\user\Мои документы\wash_the_dishes-CT.gif"/>
          <p:cNvPicPr/>
          <p:nvPr/>
        </p:nvPicPr>
        <p:blipFill>
          <a:blip r:embed="rId1"/>
          <a:stretch/>
        </p:blipFill>
        <p:spPr>
          <a:xfrm>
            <a:off x="2643120" y="1785960"/>
            <a:ext cx="33577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929120"/>
            <a:ext cx="8229600" cy="1214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WALK THE DO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Picture 2" descr="C:\Documents and Settings\user\Мои документы\walk_the_dog-CT.gif"/>
          <p:cNvPicPr/>
          <p:nvPr/>
        </p:nvPicPr>
        <p:blipFill>
          <a:blip r:embed="rId1"/>
          <a:stretch/>
        </p:blipFill>
        <p:spPr>
          <a:xfrm>
            <a:off x="2500200" y="1143000"/>
            <a:ext cx="385776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428720"/>
            <a:ext cx="8229600" cy="1500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WATCH  TV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Picture 2" descr="C:\Documents and Settings\user\Мои документы\watch_TV-CT.gif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2214720" y="1000080"/>
            <a:ext cx="435744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1640"/>
            <a:ext cx="8229600" cy="1214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GO TO BED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Picture 2" descr="C:\Documents and Settings\user\Мои документы\go_to_bed-CT.gif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500200" y="1357200"/>
            <a:ext cx="40006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622440" y="5241960"/>
            <a:ext cx="8265960" cy="1689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1643040" y="785880"/>
            <a:ext cx="578664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57520" y="5215320"/>
            <a:ext cx="6572520" cy="107172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BRUSH MY HAI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Picture 2" descr="C:\Documents and Settings\user\Мои документы\brush_my_hair-CT.gif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357280" y="1071720"/>
            <a:ext cx="4500720" cy="3571560"/>
          </a:xfrm>
          <a:prstGeom prst="rect">
            <a:avLst/>
          </a:prstGeom>
          <a:ln w="25560">
            <a:solidFill>
              <a:srgbClr val="08509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4200" y="4929120"/>
            <a:ext cx="8229600" cy="10000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WASH MY FA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2" descr="C:\Documents and Settings\user\Мои документы\wash_my_face-CT.gif"/>
          <p:cNvPicPr/>
          <p:nvPr/>
        </p:nvPicPr>
        <p:blipFill>
          <a:blip r:embed="rId1"/>
          <a:stretch/>
        </p:blipFill>
        <p:spPr>
          <a:xfrm>
            <a:off x="2500200" y="928800"/>
            <a:ext cx="421488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1"/>
          <a:stretch/>
        </p:blipFill>
        <p:spPr>
          <a:xfrm>
            <a:off x="695160" y="5052960"/>
            <a:ext cx="8180640" cy="1920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C:\Documents and Settings\user\Мои документы\do_homework-CT.gif"/>
          <p:cNvPicPr/>
          <p:nvPr/>
        </p:nvPicPr>
        <p:blipFill>
          <a:blip r:embed="rId2"/>
          <a:stretch/>
        </p:blipFill>
        <p:spPr>
          <a:xfrm>
            <a:off x="1428840" y="714240"/>
            <a:ext cx="64292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00360"/>
            <a:ext cx="8229600" cy="1500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COOK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Picture 3" descr="C:\Documents and Settings\user\Мои документы\cook-CT.gif"/>
          <p:cNvPicPr/>
          <p:nvPr/>
        </p:nvPicPr>
        <p:blipFill>
          <a:blip r:embed="rId1"/>
          <a:stretch/>
        </p:blipFill>
        <p:spPr>
          <a:xfrm>
            <a:off x="1643040" y="1143000"/>
            <a:ext cx="52149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785840"/>
            <a:ext cx="8229600" cy="1357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DRIN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Picture 2" descr="C:\Documents and Settings\user\Мои документы\drink_fluid-CT.gif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143080" y="642960"/>
            <a:ext cx="49291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786200"/>
            <a:ext cx="8229600" cy="10000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EAT BREAKFA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Picture 2" descr="C:\Documents and Settings\user\Мои документы\eat_breakfast-CT.gif"/>
          <p:cNvPicPr/>
          <p:nvPr/>
        </p:nvPicPr>
        <p:blipFill>
          <a:blip r:embed="rId1"/>
          <a:stretch/>
        </p:blipFill>
        <p:spPr>
          <a:xfrm>
            <a:off x="2214720" y="785880"/>
            <a:ext cx="528624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4714560"/>
            <a:ext cx="8229600" cy="1609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EXERCISE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3" descr="C:\Documents and Settings\user\Мои документы\exercise-CT.gif"/>
          <p:cNvPicPr/>
          <p:nvPr/>
        </p:nvPicPr>
        <p:blipFill>
          <a:blip r:embed="rId1"/>
          <a:stretch/>
        </p:blipFill>
        <p:spPr>
          <a:xfrm>
            <a:off x="1928880" y="785880"/>
            <a:ext cx="4643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6T17:04:18Z</dcterms:created>
  <dc:creator>User</dc:creator>
  <dc:description/>
  <dc:language>en-US</dc:language>
  <cp:lastModifiedBy>Дом</cp:lastModifiedBy>
  <dcterms:modified xsi:type="dcterms:W3CDTF">2011-03-11T18:56:30Z</dcterms:modified>
  <cp:revision>16</cp:revision>
  <dc:subject/>
  <dc:title>               My day</dc:title>
</cp:coreProperties>
</file>