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DEFC-5283-4833-8ACC-C840DED4FC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B2C7-A52A-48A0-B4BD-9546BB7561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323-F0A2-412D-9CF2-F999EDAB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D06-4F2D-41F4-ABD4-03DFAAE8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5220-D2D1-4E8B-8ADA-484BF6D4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A75-297B-4EE7-991E-2BA99A3C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A1E5-1DD7-4129-94F4-991761CF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63FB-9BFC-4DF5-A7C0-B1408323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7435-F074-42A4-8595-4C6C60F0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A848-2041-49FA-851E-D767DDDD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759C-FC81-4285-B5DB-05BBE1AE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0E4C-8117-4F63-9A7E-8F077A1F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637B-ACE0-490D-9E56-A4B5C979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225-1E0E-47EC-84B7-1DD07B1D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8AF9-D5E7-4D03-AC21-8C75DB87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B96C-A7AF-4CF9-A9B5-EC48AC97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3DD3-70DB-4049-BCE4-0728F696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80C6-8E10-4C3E-B7BD-C9D902AB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86B7-A9E3-4608-ACB9-EF993278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2374-262C-46D0-87CE-9FB34412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1B0A1-66BB-4FD0-868A-0C794FD8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34055-B99D-4A1D-B454-CFF00E38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87EBD-FF56-438C-9809-ADBEFC6E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D6B74-419A-4EAD-9CAF-846BB70A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641-F13D-4062-B009-DD671E3F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D55AD-FC1A-4A09-B66A-C99D8F2E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9D854-2A7C-4BB6-95C8-18071E09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51FD0-9C99-4ABD-9DB5-E737F9D1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FC933-E36D-4F19-8806-74CBFB0F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FCBCE-1A0C-43B3-ABDF-4E51DFFF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357AD-384B-4BFF-BC84-AE16E462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6715D-8C71-4D1A-B69E-18D398A9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384ED-5806-489E-9A6B-B44604BC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2C209-DD38-45E5-9A59-02208EF1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B9A90-B8E1-44B5-B105-01A941DE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E99E-6C00-4BCD-AEC4-0C17923A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2814A-0DE7-4DE1-BF00-7DB489AD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A7B2E-C576-44FF-A0FD-FB219C85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CE4DF-FB97-45BF-8190-587BE1D6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91CBD-4969-46EA-A4E5-2F46285A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4D9A0-1F9A-475A-AAF3-EB31FBDF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377E9-C020-47F6-A602-9223B2E1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DC4B2-EAC0-4795-B66A-C4A94BDB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0DD53-5F4A-4D07-914A-E5A37E30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B06D2-F046-44F8-9935-72284BA7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E69-93D3-46C9-BBA3-9AA9CE36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B7C6-D510-47C7-B4B6-FFD4FC67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7CD-9D5E-4FB1-AA61-39F6DF2D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774B-06F8-43D9-A31A-38D016A8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E59-A3C1-412F-B6D4-65485E65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E0BF-5AF4-4D3D-8839-790D10B7945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4A42-914E-431D-919B-823CF7FB6C1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B8AB-F709-4301-9DB0-6808CE8B300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A479-D447-4200-A1DC-C5BA1EA1ACE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927000" y="-103320"/>
            <a:ext cx="8197920" cy="3187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4929120"/>
            <a:ext cx="8229600" cy="1285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FEED THE C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2" descr="C:\Documents and Settings\user\Мои документы\feed_the_cat-CT.gif"/>
          <p:cNvPicPr/>
          <p:nvPr/>
        </p:nvPicPr>
        <p:blipFill>
          <a:blip r:embed="rId1"/>
          <a:stretch/>
        </p:blipFill>
        <p:spPr>
          <a:xfrm>
            <a:off x="1928880" y="1071720"/>
            <a:ext cx="55008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714920"/>
            <a:ext cx="822960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GET DRESS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2" descr="C:\Documents and Settings\user\Мои документы\get_dressed-CT.gif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214720" y="1071720"/>
            <a:ext cx="492912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714920"/>
            <a:ext cx="8229600" cy="1285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WEEP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2" descr="C:\Documents and Settings\user\Мои документы\sweep-CT.gif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571840" y="857160"/>
            <a:ext cx="38574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5143680"/>
            <a:ext cx="8229600" cy="7142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TUDY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C:\Documents and Settings\user\Мои документы\study-CT.gif"/>
          <p:cNvPicPr/>
          <p:nvPr/>
        </p:nvPicPr>
        <p:blipFill>
          <a:blip r:embed="rId1"/>
          <a:stretch/>
        </p:blipFill>
        <p:spPr>
          <a:xfrm>
            <a:off x="2928960" y="1143000"/>
            <a:ext cx="3500280" cy="3335400"/>
          </a:xfrm>
          <a:prstGeom prst="rect">
            <a:avLst/>
          </a:prstGeom>
          <a:ln w="25560">
            <a:solidFill>
              <a:srgbClr val="0850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929120"/>
            <a:ext cx="8229600" cy="9288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TAKE A BA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2" descr="C:\Documents and Settings\user\Мои документы\take_a_bath-CT.gif"/>
          <p:cNvPicPr/>
          <p:nvPr/>
        </p:nvPicPr>
        <p:blipFill>
          <a:blip r:embed="rId1"/>
          <a:stretch/>
        </p:blipFill>
        <p:spPr>
          <a:xfrm>
            <a:off x="2428920" y="1500120"/>
            <a:ext cx="407196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000400"/>
            <a:ext cx="8229600" cy="1143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WASH THE DISH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2" descr="C:\Documents and Settings\user\Мои документы\wash_the_dishes-CT.gif"/>
          <p:cNvPicPr/>
          <p:nvPr/>
        </p:nvPicPr>
        <p:blipFill>
          <a:blip r:embed="rId1"/>
          <a:stretch/>
        </p:blipFill>
        <p:spPr>
          <a:xfrm>
            <a:off x="2643120" y="1785960"/>
            <a:ext cx="33577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929120"/>
            <a:ext cx="8229600" cy="1214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WALK THE DO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Picture 2" descr="C:\Documents and Settings\user\Мои документы\walk_the_dog-CT.gif"/>
          <p:cNvPicPr/>
          <p:nvPr/>
        </p:nvPicPr>
        <p:blipFill>
          <a:blip r:embed="rId1"/>
          <a:stretch/>
        </p:blipFill>
        <p:spPr>
          <a:xfrm>
            <a:off x="2500200" y="1143000"/>
            <a:ext cx="385776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720"/>
            <a:ext cx="8229600" cy="1500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WATCH  TV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2" descr="C:\Documents and Settings\user\Мои документы\watch_TV-CT.gif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214720" y="1000080"/>
            <a:ext cx="43574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1640"/>
            <a:ext cx="8229600" cy="1214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GO TO BED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Picture 2" descr="C:\Documents and Settings\user\Мои документы\go_to_bed-CT.gif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500200" y="1357200"/>
            <a:ext cx="40006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622440" y="5241960"/>
            <a:ext cx="8265960" cy="1689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1643040" y="785880"/>
            <a:ext cx="57866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57520" y="5215320"/>
            <a:ext cx="6572520" cy="107172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BRUSH MY HAI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2" descr="C:\Documents and Settings\user\Мои документы\brush_my_hair-CT.gif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357280" y="1071720"/>
            <a:ext cx="4500720" cy="3571560"/>
          </a:xfrm>
          <a:prstGeom prst="rect">
            <a:avLst/>
          </a:prstGeom>
          <a:ln w="25560">
            <a:solidFill>
              <a:srgbClr val="0850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4200" y="4929120"/>
            <a:ext cx="822960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WASH MY FA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2" descr="C:\Documents and Settings\user\Мои документы\wash_my_face-CT.gif"/>
          <p:cNvPicPr/>
          <p:nvPr/>
        </p:nvPicPr>
        <p:blipFill>
          <a:blip r:embed="rId1"/>
          <a:stretch/>
        </p:blipFill>
        <p:spPr>
          <a:xfrm>
            <a:off x="2500200" y="928800"/>
            <a:ext cx="421488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695160" y="5052960"/>
            <a:ext cx="8180640" cy="1920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Documents and Settings\user\Мои документы\do_homework-CT.gif"/>
          <p:cNvPicPr/>
          <p:nvPr/>
        </p:nvPicPr>
        <p:blipFill>
          <a:blip r:embed="rId2"/>
          <a:stretch/>
        </p:blipFill>
        <p:spPr>
          <a:xfrm>
            <a:off x="1428840" y="714240"/>
            <a:ext cx="6429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00360"/>
            <a:ext cx="8229600" cy="1500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OOK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3" descr="C:\Documents and Settings\user\Мои документы\cook-CT.gif"/>
          <p:cNvPicPr/>
          <p:nvPr/>
        </p:nvPicPr>
        <p:blipFill>
          <a:blip r:embed="rId1"/>
          <a:stretch/>
        </p:blipFill>
        <p:spPr>
          <a:xfrm>
            <a:off x="1643040" y="1143000"/>
            <a:ext cx="5214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785840"/>
            <a:ext cx="8229600" cy="1357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DRIN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C:\Documents and Settings\user\Мои документы\drink_fluid-CT.gif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143080" y="642960"/>
            <a:ext cx="49291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786200"/>
            <a:ext cx="822960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EAT BREAKFA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C:\Documents and Settings\user\Мои документы\eat_breakfast-CT.gif"/>
          <p:cNvPicPr/>
          <p:nvPr/>
        </p:nvPicPr>
        <p:blipFill>
          <a:blip r:embed="rId1"/>
          <a:stretch/>
        </p:blipFill>
        <p:spPr>
          <a:xfrm>
            <a:off x="2214720" y="785880"/>
            <a:ext cx="52862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4714560"/>
            <a:ext cx="8229600" cy="1609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EXERCISE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3" descr="C:\Documents and Settings\user\Мои документы\exercise-CT.gif"/>
          <p:cNvPicPr/>
          <p:nvPr/>
        </p:nvPicPr>
        <p:blipFill>
          <a:blip r:embed="rId1"/>
          <a:stretch/>
        </p:blipFill>
        <p:spPr>
          <a:xfrm>
            <a:off x="1928880" y="785880"/>
            <a:ext cx="464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6T17:04:18Z</dcterms:created>
  <dc:creator>User</dc:creator>
  <dc:description/>
  <dc:language>en-US</dc:language>
  <cp:lastModifiedBy>Дом</cp:lastModifiedBy>
  <dcterms:modified xsi:type="dcterms:W3CDTF">2011-03-11T18:56:30Z</dcterms:modified>
  <cp:revision>16</cp:revision>
  <dc:subject/>
  <dc:title>               My day</dc:title>
</cp:coreProperties>
</file>