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9.gif" ContentType="image/gif"/>
  <Override PartName="/ppt/media/image8.wmf" ContentType="image/x-wmf"/>
  <Override PartName="/ppt/media/image12.wmf" ContentType="image/x-wmf"/>
  <Override PartName="/ppt/media/WtchLaff.wav" ContentType="audio/x-wav"/>
  <Override PartName="/ppt/media/image7.wmf" ContentType="image/x-wmf"/>
  <Override PartName="/ppt/media/hersheyb.wav" ContentType="audio/x-wav"/>
  <Override PartName="/ppt/media/image11.wmf" ContentType="image/x-wmf"/>
  <Override PartName="/ppt/media/image6.wmf" ContentType="image/x-wmf"/>
  <Override PartName="/ppt/media/image10.wmf" ContentType="image/x-wmf"/>
  <Override PartName="/ppt/media/image22.gif" ContentType="image/gif"/>
  <Override PartName="/ppt/media/image5.wmf" ContentType="image/x-wmf"/>
  <Override PartName="/ppt/media/image3.wmf" ContentType="image/x-wmf"/>
  <Override PartName="/ppt/media/image2.jpeg" ContentType="image/jpeg"/>
  <Override PartName="/ppt/media/AuldLang.wav" ContentType="audio/x-wav"/>
  <Override PartName="/ppt/media/image4.wmf" ContentType="image/x-wmf"/>
  <Override PartName="/ppt/media/image24.wmf" ContentType="image/x-wmf"/>
  <Override PartName="/ppt/media/image23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4.gif" ContentType="image/gif"/>
  <Override PartName="/ppt/media/image16.wmf" ContentType="image/x-wmf"/>
  <Override PartName="/ppt/media/image1.jpeg" ContentType="image/jpe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307B-048A-469E-8B41-173B7AC21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5162-8789-455A-A6E0-F43363C48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F471-F883-4807-8274-1C67B17B3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CB2C-F1F1-4496-9F6D-51B655F68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4D789-F54E-4F33-9A85-EDA682F82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9A9E9-F91D-4E0E-8B00-90BEA8B91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86967-79CD-467B-A129-464AF01C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EEE9D-79E3-45F2-BDED-0AE540266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CCBBE-BECC-461A-88DA-E8ADE929E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0A722-32B3-40DA-B759-DD2DF6C93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AF30F-A419-479A-8B05-35E2B304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0870-7C48-4D9B-A584-DA8DC231F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ACBAA-F3C7-47E4-825F-A3142DDF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B4B77-E986-497D-8CD2-AFAB6C2A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3A801-3B11-4E21-ABA7-CAAA04279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5E534-07AB-4B5D-809F-1F473058B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66D4A-FF04-42E2-952C-4F150396E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E639-D1E6-491B-AB50-0901442C5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45CA-9139-4348-B17F-89AAE7A2F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AB9D-4951-4E11-B516-7F240E48E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FD91-56BD-4433-96E7-D92DA2DFB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CBAB-B4E7-43AE-BA88-30DBFB2A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0687-5B56-4F36-B5E7-BFE88BDC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1D91-49C8-4ACC-AB02-1D6409B6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3DBC8-D86A-4656-ADEB-69627B85BC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4F142-1195-4F01-8B50-B829CA62D82B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audio" Target="../media/WtchLaff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audio" Target="../media/hersheyb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audio" Target="../media/AuldLang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38280" y="1447560"/>
            <a:ext cx="6019920" cy="236196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Matura MT Script Capitals"/>
              </a:rPr>
              <a:t>Traditions and </a:t>
            </a:r>
            <a:br>
              <a:rPr sz="4800"/>
            </a:br>
            <a:r>
              <a:rPr b="0" lang="et-EE" sz="4800" spc="-1" strike="noStrike">
                <a:solidFill>
                  <a:srgbClr val="000000"/>
                </a:solidFill>
                <a:latin typeface="Matura MT Script Capitals"/>
              </a:rPr>
              <a:t>Customs in Great Britain</a:t>
            </a:r>
            <a:endParaRPr b="0" lang="en-US" sz="4800" spc="-1" strike="noStrike">
              <a:solidFill>
                <a:srgbClr val="78695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The London Marathon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One of the biggest marathons in the wor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Each year about 30,000 people start the race and about 25,000 finis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Raise money for char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78360" y="1981080"/>
            <a:ext cx="26910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May Day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May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A pagan festival to celebrate the end of winter and welcome summ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Children dance around the maypole and sing so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257800" y="2219400"/>
            <a:ext cx="3733920" cy="36367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Chelsea Flower Show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In M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Britain’s most important flower and garden sh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Thousands of people come to see the prize flowers and specially built garde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603760" y="1981080"/>
            <a:ext cx="30402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Midsummer Day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June 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Summer solst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People stay up until midnight to welcome in midsummer da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When the fires die down, men run or jump through it to bring good lu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010280" y="2057400"/>
            <a:ext cx="1689120" cy="33498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105520" y="3809880"/>
            <a:ext cx="2103480" cy="1737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Trooping The Colour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The second Saturday in Ju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Celebrates the Queen’s official birth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Lots of marching, military music and the soldiers are dressed in colourful unifo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248520" y="1981080"/>
            <a:ext cx="175248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Saint Swithin’s Day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July 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Saint Swithin was England’s Bishop of Winches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40 days of bad weather will follow if it rains on this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157800" y="1981080"/>
            <a:ext cx="193356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Wimbledon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The last week of July and the first week of Ju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At Wimbledon in South-West Lond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One of the four great world tennis championships and the only one which is played on gr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257800" y="2070000"/>
            <a:ext cx="3733920" cy="39355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Notting Hill Carnival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The last weekend in Augu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Takes place in Notting H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People dress up in fabulous costu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Steel bands play African and Caribbean mus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410080" y="1981080"/>
            <a:ext cx="34290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Harvest Festivals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In Septe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A Christian festiv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It was held to say thank you to God for a good harv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Churches are decorated with fruit, vegetables and flow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257800" y="2055960"/>
            <a:ext cx="3733920" cy="39654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Halloween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October 3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A pagan festival celebrates the return of the souls that visit their former hou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People dress up as witches, ghosts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Houses are decorated with pumpk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257800" y="2090880"/>
            <a:ext cx="3733920" cy="38941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2" name="WtchLaff.wav"/>
      </p:stSnd>
    </p:sndAc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800" spc="-1" strike="noStrike">
                <a:solidFill>
                  <a:srgbClr val="000000"/>
                </a:solidFill>
                <a:latin typeface="Script MT Bold"/>
              </a:rPr>
              <a:t>January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Script MT Bold"/>
              </a:rPr>
              <a:t>New Year’s Day (Jan 1)-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the beginning of the new year. People make resolu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Script MT Bold"/>
              </a:rPr>
              <a:t>Twelfth Night (Jan 6)-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a party after the Christmas break and before the return to work in the fie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Guy Fawke’s Night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November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He was a terror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The day marks the discovery of a plot to blow up Parliament in 160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People make models of him and burn them on big bonfi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257800" y="2433600"/>
            <a:ext cx="3733920" cy="32083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Christmas Day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December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Religious ceremony commemorating the birth of Chr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Children wake up early to find presents in their stock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Traditional Christmas tree and dinn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724280" y="2133720"/>
            <a:ext cx="4419720" cy="2962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2" name="hersheyb.wav"/>
      </p:stSnd>
    </p:sndAc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Boxing Day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December 2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It is usually spent in front of the TV, recovering from Christmas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Servants go from house to house with collecting box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257800" y="2781360"/>
            <a:ext cx="3733920" cy="25146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New Year’s Eve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December 3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Traditionally Scottish celebr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At midnight everybody joins hands and sings Auld Lang Sy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257800" y="2529000"/>
            <a:ext cx="3733920" cy="30193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2" name="AuldLang.wav"/>
      </p:stSnd>
    </p:sndAc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Crufts Dog Show 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In Febru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Valuable dogs from all over the world compete in Birmingha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The best dog gets the title Crufts Supreme Champ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256360" y="2092320"/>
            <a:ext cx="3735360" cy="3890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Saint Valentine’s Day 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February 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Was started in the time of Roman Empi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Is dedicated to St. Valent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People send a card to someone they love, like, fancy or admi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899320" y="1981080"/>
            <a:ext cx="244944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The Boat Race 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In M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A rowing race between the universities of Oxford and Cambrid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On the river Thames in London (7,2 km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257800" y="2735280"/>
            <a:ext cx="3733920" cy="26049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Pancake Day 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In M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The last day before L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Pancake race-running while holding a pancake in a frying pan. Competitors have to throw it in the air and catch it again in the p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257800" y="2494080"/>
            <a:ext cx="3733920" cy="30891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April Fool’s Day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April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A day of practical jok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You have to play the joke before 12 o’clock midday, otherwise the joke is on yo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257800" y="2211480"/>
            <a:ext cx="3733920" cy="3652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Good Friday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The Friday before Eas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The church marks the death of Chr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British usually eat hot-cross buns, which are marked on top with cro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783400" y="1981080"/>
            <a:ext cx="268128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Easter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In Apr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The celebration of the Resurrection of Chr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Schools are closed for two wee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People give each other chocolate eggs that are wrapped in silver pap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381640" y="1447920"/>
            <a:ext cx="353376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1T06:17:02Z</dcterms:created>
  <dc:creator>kasutaja15</dc:creator>
  <dc:description/>
  <dc:language>en-US</dc:language>
  <cp:lastModifiedBy>powerful</cp:lastModifiedBy>
  <dcterms:modified xsi:type="dcterms:W3CDTF">2012-04-17T16:07:37Z</dcterms:modified>
  <cp:revision>21</cp:revision>
  <dc:subject/>
  <dc:title>Traditions and  Customs in Great Britain</dc:title>
</cp:coreProperties>
</file>