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87E-9942-4592-B43B-D727E3E5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29A-8189-4ACD-A152-69CCC310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FB3-6522-447D-9C91-991F7F8F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EB7-FAD9-44FB-9F36-582D24EA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C0EA-24BD-45B3-BA45-C16091B1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A38-55F2-4D7C-9D2A-ADA2451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7AB4-0C3E-4759-8459-18FCE2E3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39D7-4DC6-4F8E-946D-1894BDDD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3427-306B-4675-9DA3-516B056A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9429-BD1E-49D6-AD05-07F2132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5CB8-2B65-4628-9701-19A4837C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A03-359A-49BE-B547-F6790E65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C967-A473-446D-A539-0165812E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233C-CEA8-459A-8035-FC0C136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F55C-EC78-4830-923E-4F9DF78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2C8D-E6E0-40CD-8B4E-ABD97FB6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3A22-2CC6-4D52-B0F7-E8898674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3D3-A744-4B3B-933F-74F51869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62F-FFC1-4415-9D2D-1CEDC267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160-57C4-4C6E-9949-EBC04230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FA6-6F1D-4945-991A-B094F882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C03-D025-406F-83E2-32A11F91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7C8-58CC-4026-8FE6-6AE3752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3C1-833E-47D9-8345-E73FBD0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F58B-564A-4BA4-BBC8-E8B49A0DE57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2139-8FD7-40EB-B0D8-E71CDC39E4D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s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ошедшее продолженное врем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на фоне другого действия в прошлом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, when dad came 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, когда вошел пап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в течение конкретного периода в прошлом (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at 6 o’clock yesterday, yesterday in the morning)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 at 7 o’clock yesterda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чера в 7 час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35280" y="2276280"/>
            <a:ext cx="56894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33cc"/>
                </a:solidFill>
                <a:latin typeface="Arial"/>
              </a:rPr>
              <a:t>Was\were</a:t>
            </a:r>
            <a:r>
              <a:rPr b="0" lang="en-US" sz="5600" spc="-1" strike="noStrike">
                <a:solidFill>
                  <a:srgbClr val="292929"/>
                </a:solidFill>
                <a:latin typeface="Arial"/>
              </a:rPr>
              <a:t> + </a:t>
            </a:r>
            <a:r>
              <a:rPr b="0" lang="en-US" sz="56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600" spc="-1" strike="noStrike" baseline="-25000">
                <a:solidFill>
                  <a:srgbClr val="ff9900"/>
                </a:solidFill>
                <a:latin typeface="Arial"/>
              </a:rPr>
              <a:t>ing</a:t>
            </a:r>
            <a:endParaRPr b="0" lang="en-US" sz="5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78936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question, when the teacher was asked for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15772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USA, when his sister got married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и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Общий вопрос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3141720"/>
            <a:ext cx="61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 his homework, when the phone rang up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50028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рица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3141720"/>
            <a:ext cx="237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is homework, when the phone rang up.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</cp:lastModifiedBy>
  <dcterms:modified xsi:type="dcterms:W3CDTF">2007-10-30T09:08:40Z</dcterms:modified>
  <cp:revision>26</cp:revision>
  <dc:subject/>
  <dc:title>The Present Perfect Tense</dc:title>
</cp:coreProperties>
</file>