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242E-B4EE-4435-8101-752C19FD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F6D1-B6B6-44EE-9046-E841A125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6418-274A-4F44-AAE7-7075A9E5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99A6-AD3C-48C8-AA35-DB2235E9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6D92-3202-4D64-9D90-1F0E4579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C596-26DF-46F6-A15E-FAE6B2CB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12A9-93F3-41C3-BD83-2CDA9337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D91F-E9D5-474A-AEEA-A461B68C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6DE8-9F5E-4EC6-8018-8C01887C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A836-C8AA-413E-90BF-235D18E4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63B8-4E87-41A1-98D5-05E8F825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21F-58D7-449E-B80D-65A65D91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B2DE-981C-4AD1-8EA7-933AF219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4727-9762-4280-8F5D-6983603E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7B44-1A73-4D22-9574-7ED414FF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ECF6-81EA-4397-B6F8-FB149F79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9B32-5C6A-464D-A483-800BE667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7250-97DE-4EF3-84B3-C2A63CFB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5D50-2335-4005-BCB2-480AD47C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DD5-3823-4090-88D5-B58C7743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B7DC-A48A-4F34-9B82-35AC5C0F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01E3-9A71-4E04-B1EB-4A989E62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2A7E-68CE-4412-ACD8-5E6F2986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CAB4-5CE2-4B74-B250-B1BD9CB6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4e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E03A-110A-4704-B7C9-3BD17ADD09C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4e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D01E-B141-4DE3-BB58-0899F19CCF5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youtube.com/watch?v=ldiPn0ngxK0&amp;feature=related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diPn0ngxK0&amp;feature=related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396252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Ge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i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hemis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Observ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Geolo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Ear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Environmen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Ev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Significan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Natu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Sustai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xpens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Inv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800600" y="380880"/>
            <a:ext cx="3962520" cy="57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оло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ми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блюд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олог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ающая сре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читель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ив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о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обрет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800600" y="380880"/>
            <a:ext cx="3962520" cy="57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оло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ми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блюд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олог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ающая сре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читель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ив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о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обрет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457200" y="457200"/>
          <a:ext cx="8229600" cy="5332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autiful things we 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ngerous things we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ings we can do to protect na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56386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533520" y="152280"/>
            <a:ext cx="807696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Ссылка на видеофрагмент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www.youtube.com/watch?v=ldiPn0ngxK0&amp;feature=relate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ебник 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joy Englis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 для 10 класс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иболетовой М.З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ебник 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ppy Englis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7-9 классов Клементьевой Т.Б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youtube.com/watch?v=ldiPn0ngxK0&amp;feature=related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335268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743200" y="380880"/>
            <a:ext cx="327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Geo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chemis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Observa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Geologi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ca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Earth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quak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nvironment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al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ventual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Significant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l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Natur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al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Sustain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mis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sion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In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xpens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Inventive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nes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6172200" y="304920"/>
            <a:ext cx="3505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еохими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блюдени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еологический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емлетрясени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кружающи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конечном итог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начительно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родный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ддерживающий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бросы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обретательност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380880"/>
            <a:ext cx="327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Geochemis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Observ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Geologica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arthquak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nvironmenta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ventual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Significantl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Natural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Sustain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mission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Inexpens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Inventivenes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5105520" y="533520"/>
            <a:ext cx="99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410080" y="380880"/>
            <a:ext cx="914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Do you know how long these things last?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52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traffic tick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banana pe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wool soc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wooden stic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painted wooden stak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wax paper cu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tin c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aluminum c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plastic contain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glass bott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WordArt 7"/>
          <p:cNvSpPr txBox="1"/>
          <p:nvPr/>
        </p:nvSpPr>
        <p:spPr>
          <a:xfrm>
            <a:off x="3581280" y="1523880"/>
            <a:ext cx="18288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 month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WordArt 8"/>
          <p:cNvSpPr txBox="1"/>
          <p:nvPr/>
        </p:nvSpPr>
        <p:spPr>
          <a:xfrm>
            <a:off x="5486400" y="1828800"/>
            <a:ext cx="175752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 month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WordArt 9"/>
          <p:cNvSpPr txBox="1"/>
          <p:nvPr/>
        </p:nvSpPr>
        <p:spPr>
          <a:xfrm>
            <a:off x="3581280" y="2362320"/>
            <a:ext cx="130500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year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WordArt 10"/>
          <p:cNvSpPr txBox="1"/>
          <p:nvPr/>
        </p:nvSpPr>
        <p:spPr>
          <a:xfrm>
            <a:off x="5486400" y="2666880"/>
            <a:ext cx="1595520" cy="4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 years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11"/>
          <p:cNvSpPr txBox="1"/>
          <p:nvPr/>
        </p:nvSpPr>
        <p:spPr>
          <a:xfrm>
            <a:off x="4952880" y="3200400"/>
            <a:ext cx="168588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3 years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WordArt 12"/>
          <p:cNvSpPr txBox="1"/>
          <p:nvPr/>
        </p:nvSpPr>
        <p:spPr>
          <a:xfrm>
            <a:off x="3962520" y="3657600"/>
            <a:ext cx="1380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years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WordArt 13"/>
          <p:cNvSpPr txBox="1"/>
          <p:nvPr/>
        </p:nvSpPr>
        <p:spPr>
          <a:xfrm>
            <a:off x="5562720" y="39625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0 years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WordArt 14"/>
          <p:cNvSpPr txBox="1"/>
          <p:nvPr/>
        </p:nvSpPr>
        <p:spPr>
          <a:xfrm>
            <a:off x="3962520" y="4419720"/>
            <a:ext cx="1076040" cy="4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ver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15"/>
          <p:cNvSpPr txBox="1"/>
          <p:nvPr/>
        </p:nvSpPr>
        <p:spPr>
          <a:xfrm>
            <a:off x="5334120" y="4800600"/>
            <a:ext cx="2895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p to 500 years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WordArt 16"/>
          <p:cNvSpPr txBox="1"/>
          <p:nvPr/>
        </p:nvSpPr>
        <p:spPr>
          <a:xfrm>
            <a:off x="3962520" y="5486400"/>
            <a:ext cx="1218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ver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457200" y="547560"/>
            <a:ext cx="8686800" cy="6310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2590920" y="0"/>
            <a:ext cx="4047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ke word combin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swer the ques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. What does Vernandsky's theory say about the Earth futur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838080" y="3352680"/>
            <a:ext cx="48196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f the science guide the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ociety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WordArt 7"/>
          <p:cNvSpPr txBox="1"/>
          <p:nvPr/>
        </p:nvSpPr>
        <p:spPr>
          <a:xfrm>
            <a:off x="762120" y="4800600"/>
            <a:ext cx="6858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t would soften the human  environmental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mpact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2. What  does the biologi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think about human impa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on the Earth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533520" y="4038480"/>
            <a:ext cx="83055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eople are clever enough to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e able to maintain the rates of progress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. What are the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examples of human intera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with natur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762120" y="3505320"/>
            <a:ext cx="5867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mission of carbon dioxid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WordArt 5"/>
          <p:cNvSpPr txBox="1"/>
          <p:nvPr/>
        </p:nvSpPr>
        <p:spPr>
          <a:xfrm>
            <a:off x="762120" y="4495680"/>
            <a:ext cx="4190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lobal warming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WordArt 6"/>
          <p:cNvSpPr txBox="1"/>
          <p:nvPr/>
        </p:nvSpPr>
        <p:spPr>
          <a:xfrm>
            <a:off x="762120" y="5334120"/>
            <a:ext cx="3504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utting forests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4. What will help people to lessen human impact on the Earth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838080" y="3352680"/>
            <a:ext cx="702468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Experts say that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same inventiveness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at accelerates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human development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6" name="WordArt 5"/>
          <p:cNvSpPr txBox="1"/>
          <p:nvPr/>
        </p:nvSpPr>
        <p:spPr>
          <a:xfrm>
            <a:off x="914400" y="5334120"/>
            <a:ext cx="6477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an be used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o soften human impact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7:48:05Z</dcterms:created>
  <dc:creator>user</dc:creator>
  <dc:description/>
  <dc:language>en-US</dc:language>
  <cp:lastModifiedBy>123</cp:lastModifiedBy>
  <dcterms:modified xsi:type="dcterms:W3CDTF">2012-02-28T19:19:3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