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7.gif" ContentType="image/gi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0C65-7EE4-4A35-9CB0-54A2E1551F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8D62-5871-46C8-A10D-8617718210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C1D-9904-4450-93D7-4E6811B4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0ED-9958-47F3-B2D2-E89CC1AD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7B9-5529-402F-A9B0-24C3C0A7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580-DD65-44D3-8A24-D730A602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C41-16EC-4BC0-B7B2-E686031B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0E7-0537-42E2-A134-37EDBA3C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296-531A-4B77-A2E7-A9E108CF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7C7-1825-4F1F-AE1C-C4556FD2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D6D-7B82-44E1-9298-B86FA7E6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70C-17BE-423F-93FC-A64BC0F9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E69-8DBC-4136-B121-07EF241B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FBC-4F8F-44A9-9A72-5A39E3B4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ED2C-E134-4014-840C-C5F9C11EF7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011240" y="23760"/>
            <a:ext cx="6651720" cy="1665360"/>
          </a:xfrm>
          <a:prstGeom prst="rect">
            <a:avLst/>
          </a:prstGeom>
          <a:ln w="0">
            <a:noFill/>
          </a:ln>
        </p:spPr>
      </p:pic>
      <p:sp>
        <p:nvSpPr>
          <p:cNvPr id="49" name="Волна 15"/>
          <p:cNvSpPr/>
          <p:nvPr/>
        </p:nvSpPr>
        <p:spPr>
          <a:xfrm>
            <a:off x="3714840" y="4429080"/>
            <a:ext cx="1785960" cy="928800"/>
          </a:xfrm>
          <a:custGeom>
            <a:avLst/>
            <a:gdLst>
              <a:gd name="textAreaLeft" fmla="*/ 0 w 1785960"/>
              <a:gd name="textAreaRight" fmla="*/ 1786320 w 178596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2f2f2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Волна 16"/>
          <p:cNvSpPr/>
          <p:nvPr/>
        </p:nvSpPr>
        <p:spPr>
          <a:xfrm>
            <a:off x="1143000" y="1571760"/>
            <a:ext cx="2428920" cy="1000080"/>
          </a:xfrm>
          <a:custGeom>
            <a:avLst/>
            <a:gdLst>
              <a:gd name="textAreaLeft" fmla="*/ 0 w 2428920"/>
              <a:gd name="textAreaRight" fmla="*/ 2429280 w 242892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 front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Волна 13"/>
          <p:cNvSpPr/>
          <p:nvPr/>
        </p:nvSpPr>
        <p:spPr>
          <a:xfrm>
            <a:off x="1285920" y="2714760"/>
            <a:ext cx="2500200" cy="1000080"/>
          </a:xfrm>
          <a:custGeom>
            <a:avLst/>
            <a:gdLst>
              <a:gd name="textAreaLeft" fmla="*/ 0 w 2500200"/>
              <a:gd name="textAreaRight" fmla="*/ 2500560 w 250020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олна 14"/>
          <p:cNvSpPr/>
          <p:nvPr/>
        </p:nvSpPr>
        <p:spPr>
          <a:xfrm>
            <a:off x="5214960" y="2857680"/>
            <a:ext cx="3000240" cy="857160"/>
          </a:xfrm>
          <a:custGeom>
            <a:avLst/>
            <a:gdLst>
              <a:gd name="textAreaLeft" fmla="*/ 0 w 3000240"/>
              <a:gd name="textAreaRight" fmla="*/ 3000600 w 300024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Волна 18"/>
          <p:cNvSpPr/>
          <p:nvPr/>
        </p:nvSpPr>
        <p:spPr>
          <a:xfrm>
            <a:off x="714240" y="4286160"/>
            <a:ext cx="1928880" cy="1143000"/>
          </a:xfrm>
          <a:custGeom>
            <a:avLst/>
            <a:gdLst>
              <a:gd name="textAreaLeft" fmla="*/ 0 w 1928880"/>
              <a:gd name="textAreaRight" fmla="*/ 1929240 w 19288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олна 19"/>
          <p:cNvSpPr/>
          <p:nvPr/>
        </p:nvSpPr>
        <p:spPr>
          <a:xfrm>
            <a:off x="6286680" y="4071960"/>
            <a:ext cx="2143080" cy="1214280"/>
          </a:xfrm>
          <a:custGeom>
            <a:avLst/>
            <a:gdLst>
              <a:gd name="textAreaLeft" fmla="*/ 0 w 2143080"/>
              <a:gd name="textAreaRight" fmla="*/ 2143440 w 21430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олна 20"/>
          <p:cNvSpPr/>
          <p:nvPr/>
        </p:nvSpPr>
        <p:spPr>
          <a:xfrm>
            <a:off x="571680" y="5572080"/>
            <a:ext cx="2786040" cy="1071720"/>
          </a:xfrm>
          <a:custGeom>
            <a:avLst/>
            <a:gdLst>
              <a:gd name="textAreaLeft" fmla="*/ 0 w 2786040"/>
              <a:gd name="textAreaRight" fmla="*/ 2786400 w 278604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олна 21"/>
          <p:cNvSpPr/>
          <p:nvPr/>
        </p:nvSpPr>
        <p:spPr>
          <a:xfrm>
            <a:off x="5857920" y="5500800"/>
            <a:ext cx="2428920" cy="1214280"/>
          </a:xfrm>
          <a:custGeom>
            <a:avLst/>
            <a:gdLst>
              <a:gd name="textAreaLeft" fmla="*/ 0 w 2428920"/>
              <a:gd name="textAreaRight" fmla="*/ 2429280 w 242892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00040" y="578628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righ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5786280" y="57150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lef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Волна 26"/>
          <p:cNvSpPr/>
          <p:nvPr/>
        </p:nvSpPr>
        <p:spPr>
          <a:xfrm>
            <a:off x="5143680" y="1500120"/>
            <a:ext cx="3000240" cy="1214640"/>
          </a:xfrm>
          <a:custGeom>
            <a:avLst/>
            <a:gdLst>
              <a:gd name="textAreaLeft" fmla="*/ 0 w 3000240"/>
              <a:gd name="textAreaRight" fmla="*/ 3000600 w 3000240"/>
              <a:gd name="textAreaTop" fmla="*/ 303480 h 1214640"/>
              <a:gd name="textAreaBottom" fmla="*/ 9111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5143680" y="171468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the middl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олна 28"/>
          <p:cNvSpPr/>
          <p:nvPr/>
        </p:nvSpPr>
        <p:spPr>
          <a:xfrm>
            <a:off x="4000680" y="5786280"/>
            <a:ext cx="1428480" cy="928800"/>
          </a:xfrm>
          <a:custGeom>
            <a:avLst/>
            <a:gdLst>
              <a:gd name="textAreaLeft" fmla="*/ 0 w 1428480"/>
              <a:gd name="textAreaRight" fmla="*/ 1428840 w 142848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9"/>
          <p:cNvSpPr/>
          <p:nvPr/>
        </p:nvSpPr>
        <p:spPr>
          <a:xfrm>
            <a:off x="4214880" y="5786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4075560" y="2857680"/>
            <a:ext cx="6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46400" y="5786280"/>
            <a:ext cx="766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…....…..the </a:t>
            </a:r>
            <a:r>
              <a:rPr b="1" lang="en-US" sz="4800" spc="-1" strike="noStrike">
                <a:solidFill>
                  <a:srgbClr val="0d0d0d"/>
                </a:solidFill>
                <a:latin typeface="Calibri"/>
              </a:rPr>
              <a:t>basket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Documents and Settings\Admin\Рабочий стол\cat190.gif"/>
          <p:cNvPicPr/>
          <p:nvPr/>
        </p:nvPicPr>
        <p:blipFill>
          <a:blip r:embed="rId1"/>
          <a:stretch/>
        </p:blipFill>
        <p:spPr>
          <a:xfrm>
            <a:off x="2214720" y="771480"/>
            <a:ext cx="4857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6476 L -0.01302 0.40056 E">
                                      <p:cBhvr>
                                        <p:cTn id="5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Local Settings\Temporary Internet Files\Content.IE5\GEDWP2E8\MCj0432323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0" y="5929200"/>
            <a:ext cx="907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at is.…....……………………the stree</a:t>
            </a: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660400" y="4286160"/>
            <a:ext cx="386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 the middl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C:\Documents and Settings\Admin\Рабочий стол\cat88.gif"/>
          <p:cNvPicPr/>
          <p:nvPr/>
        </p:nvPicPr>
        <p:blipFill>
          <a:blip r:embed="rId2"/>
          <a:stretch/>
        </p:blipFill>
        <p:spPr>
          <a:xfrm>
            <a:off x="2071800" y="2928960"/>
            <a:ext cx="48574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2868 L -0.00208 0.23867 E">
                                      <p:cBhvr>
                                        <p:cTn id="6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Documents and Settings\Admin\Рабочий стол\animated_thanks_44_thumb.gif"/>
          <p:cNvPicPr/>
          <p:nvPr/>
        </p:nvPicPr>
        <p:blipFill>
          <a:blip r:embed="rId1"/>
          <a:stretch/>
        </p:blipFill>
        <p:spPr>
          <a:xfrm>
            <a:off x="1785960" y="500040"/>
            <a:ext cx="5643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9"/>
          <p:cNvSpPr/>
          <p:nvPr/>
        </p:nvSpPr>
        <p:spPr>
          <a:xfrm>
            <a:off x="1643040" y="564372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.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3786120" y="4071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2000160" y="2571840"/>
            <a:ext cx="4214880" cy="321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2857680" y="0"/>
            <a:ext cx="3643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62535E-007 L 0.03524 0.2167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5"/>
          <p:cNvSpPr/>
          <p:nvPr/>
        </p:nvSpPr>
        <p:spPr>
          <a:xfrm>
            <a:off x="0" y="5857920"/>
            <a:ext cx="95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of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571840" y="3071880"/>
            <a:ext cx="55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lef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4214880" y="2000160"/>
            <a:ext cx="3714840" cy="305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1928880" y="1071720"/>
            <a:ext cx="34099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9584E-006 L 0.01562 0.40912 E">
                                      <p:cBhvr>
                                        <p:cTn id="1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2714760" y="300024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righ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131040" y="5857920"/>
            <a:ext cx="913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.of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4929120" y="214200"/>
            <a:ext cx="3643560" cy="478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1071720" y="1571760"/>
            <a:ext cx="42559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505 L -0.00469 0.40125 E">
                                      <p:cBhvr>
                                        <p:cTn id="1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3286080" y="321480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Documents and Settings\Admin\Local Settings\Temporary Internet Files\Content.IE5\3LK7GO01\MPj04244120000[1]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0"/>
          <p:cNvSpPr/>
          <p:nvPr/>
        </p:nvSpPr>
        <p:spPr>
          <a:xfrm>
            <a:off x="0" y="578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....………….. the t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3643200" y="4143240"/>
            <a:ext cx="27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286080" y="3000240"/>
            <a:ext cx="29289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98705E-006 L -0.02968 0.22409 E">
                                      <p:cBhvr>
                                        <p:cTn id="2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C:\Documents and Settings\Admin\Рабочий стол\cat50.gif"/>
          <p:cNvPicPr/>
          <p:nvPr/>
        </p:nvPicPr>
        <p:blipFill>
          <a:blip r:embed="rId1"/>
          <a:stretch/>
        </p:blipFill>
        <p:spPr>
          <a:xfrm>
            <a:off x="3571920" y="0"/>
            <a:ext cx="2500200" cy="3360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429000" y="357192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b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2571840" y="3357720"/>
            <a:ext cx="3357360" cy="2761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8"/>
          <p:cNvSpPr/>
          <p:nvPr/>
        </p:nvSpPr>
        <p:spPr>
          <a:xfrm>
            <a:off x="673560" y="6027840"/>
            <a:ext cx="69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8 0.00324 L -0.00833 0.34204 E">
                                      <p:cBhvr>
                                        <p:cTn id="3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2857680" y="0"/>
            <a:ext cx="3922560" cy="5157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643200" y="4214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173600" y="5857920"/>
            <a:ext cx="69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2428920" y="2143080"/>
            <a:ext cx="4572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5643 L 0.01892 0.23474 E">
                                      <p:cBhvr>
                                        <p:cTn id="3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3929040" y="314316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 fron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857160" y="6027840"/>
            <a:ext cx="869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…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2143080" y="1357200"/>
            <a:ext cx="5313240" cy="4372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786120" y="1000080"/>
            <a:ext cx="3672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0.02313 L -0.04618 0.40079 E">
                                      <p:cBhvr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Documents and Settings\Admin\Рабочий стол\dog73.gif"/>
          <p:cNvPicPr/>
          <p:nvPr/>
        </p:nvPicPr>
        <p:blipFill>
          <a:blip r:embed="rId1"/>
          <a:stretch/>
        </p:blipFill>
        <p:spPr>
          <a:xfrm>
            <a:off x="4857840" y="2000160"/>
            <a:ext cx="3733560" cy="36021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2794320" y="364320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twe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527400" y="5857920"/>
            <a:ext cx="792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.the do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000240" y="1357200"/>
            <a:ext cx="3235320" cy="4254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Admin\Рабочий стол\dog78.gif"/>
          <p:cNvPicPr/>
          <p:nvPr/>
        </p:nvPicPr>
        <p:blipFill>
          <a:blip r:embed="rId3"/>
          <a:stretch/>
        </p:blipFill>
        <p:spPr>
          <a:xfrm>
            <a:off x="-142920" y="1143000"/>
            <a:ext cx="40654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0.06614 L 0.03976 0.31799 E">
                                      <p:cBhvr>
                                        <p:cTn id="4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8T07:56:05Z</dcterms:modified>
  <cp:revision>36</cp:revision>
  <dc:subject/>
  <dc:title>Слайд 1</dc:title>
</cp:coreProperties>
</file>