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4363-DD01-44B6-AA1F-C2CFD28C95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5838-EE5D-4B10-B0CC-4D9FDC9D23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388D-5767-4F0B-81BA-6F63046C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A3F5-88DE-4083-B3B3-D782B2D7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D3E9-754A-4DA6-ACB1-02F8149CF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3251-1225-40A3-BD57-BDBBDD68A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CBB6-AD44-40E9-A708-B8751D9B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759E-1995-4866-9434-AE7A48B8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FC51-2517-4C20-A1E6-DEBBE779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0EDD-3263-422C-B502-019C3012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CCDC-4D51-4EDA-9BB9-E7235F2D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C4EB-90D3-46F0-B943-B3E5D59A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7B51-75BA-4828-B255-1425E0D8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81EC-1B91-4534-AAAC-9CA8B725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7A29-517F-4E6C-9573-41D3BCEF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CF66-CAF4-4DC8-8D37-FC1B648C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92A0-556D-4EED-B99E-57EF4665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F0D0-D2A6-49F7-9763-53F324178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E8EC-037B-4943-BCA5-8757E800F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7D49C-CACC-4EE6-8ABB-484A6C3BB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B297F-0371-4B20-953C-634753CA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7CA19-8A58-4372-9F00-E7A13344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365C6-A043-40A8-A0E1-75BEBCAD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D8F90-4898-4CA7-8767-48FD1748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4605-35FD-4C7F-9AF6-BA49D764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80823-DD24-40C1-9C69-152899C4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49357-7889-45EC-B345-8D3CEF97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A41ED-E189-4D9F-966B-40919973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9E959-43F0-42D9-84FB-EB71C74C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585E7-C546-4CB3-AC2E-CA68C3BC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8F82F-30F1-4818-A3DA-C042EB6A9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8EBAD-E3C3-435B-80AD-FD427B63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0FD67-403F-4544-9487-27F909D9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6F162-68A5-41D7-A62D-98B8FDFA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55010-F334-41B1-AEF6-26732B79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19A5-7F04-4F0B-99FA-A7CF52F2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048AF-17F6-4773-AB0E-A8A9EDC7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55899-9F01-40E1-AE49-580F94A2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7720D-78BE-4BDA-BCC3-FF481B2E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D4B62-07F9-49C0-AA09-A329CE78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B82FD-62BE-4245-BE34-756C0353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51937-9C83-4E50-AC73-65A8AC9D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DE0CE-C748-4104-BF73-FBE3F97F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8E9B8-310D-4E49-AA07-2FA763221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820E5-8275-462F-914A-C501D420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B6AF-E3E7-4521-B431-7DCBA382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0431-CEA5-412F-A16C-49764691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3AF9-7D25-4243-9D56-8C09176B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4F5A-E921-4B79-9436-748D1EFE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3E2F-E961-472E-B4AC-4FE7F272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1C36-1222-4416-B18B-74576740539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4248-31A0-4DE7-B4E2-DD1C4FED404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BB47-FCE0-492D-998F-73861C5BB1D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3411-182C-4A96-A9DF-733F1397CAA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927000" y="-103320"/>
            <a:ext cx="8197920" cy="31878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0040" y="4929120"/>
            <a:ext cx="8229600" cy="1285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FEED THE C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Picture 2" descr="C:\Documents and Settings\user\Мои документы\feed_the_cat-CT.gif"/>
          <p:cNvPicPr/>
          <p:nvPr/>
        </p:nvPicPr>
        <p:blipFill>
          <a:blip r:embed="rId1"/>
          <a:stretch/>
        </p:blipFill>
        <p:spPr>
          <a:xfrm>
            <a:off x="1928880" y="1071720"/>
            <a:ext cx="550080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714920"/>
            <a:ext cx="8229600" cy="10000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GET DRESS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Picture 2" descr="C:\Documents and Settings\user\Мои документы\get_dressed-CT.gif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214720" y="1071720"/>
            <a:ext cx="492912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714920"/>
            <a:ext cx="8229600" cy="1285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SWEEP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Picture 2" descr="C:\Documents and Settings\user\Мои документы\sweep-CT.gif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571840" y="857160"/>
            <a:ext cx="38574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5143680"/>
            <a:ext cx="8229600" cy="7142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STUDY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Picture 2" descr="C:\Documents and Settings\user\Мои документы\study-CT.gif"/>
          <p:cNvPicPr/>
          <p:nvPr/>
        </p:nvPicPr>
        <p:blipFill>
          <a:blip r:embed="rId1"/>
          <a:stretch/>
        </p:blipFill>
        <p:spPr>
          <a:xfrm>
            <a:off x="2928960" y="1143000"/>
            <a:ext cx="3500280" cy="3335400"/>
          </a:xfrm>
          <a:prstGeom prst="rect">
            <a:avLst/>
          </a:prstGeom>
          <a:ln w="25560">
            <a:solidFill>
              <a:srgbClr val="08509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929120"/>
            <a:ext cx="8229600" cy="9288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TAKE A BAT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Picture 2" descr="C:\Documents and Settings\user\Мои документы\take_a_bath-CT.gif"/>
          <p:cNvPicPr/>
          <p:nvPr/>
        </p:nvPicPr>
        <p:blipFill>
          <a:blip r:embed="rId1"/>
          <a:stretch/>
        </p:blipFill>
        <p:spPr>
          <a:xfrm>
            <a:off x="2428920" y="1500120"/>
            <a:ext cx="407196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000400"/>
            <a:ext cx="8229600" cy="1143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WASH THE DISHE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1" name="Picture 2" descr="C:\Documents and Settings\user\Мои документы\wash_the_dishes-CT.gif"/>
          <p:cNvPicPr/>
          <p:nvPr/>
        </p:nvPicPr>
        <p:blipFill>
          <a:blip r:embed="rId1"/>
          <a:stretch/>
        </p:blipFill>
        <p:spPr>
          <a:xfrm>
            <a:off x="2643120" y="1785960"/>
            <a:ext cx="335772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929120"/>
            <a:ext cx="8229600" cy="1214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WALK THE DO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3" name="Picture 2" descr="C:\Documents and Settings\user\Мои документы\walk_the_dog-CT.gif"/>
          <p:cNvPicPr/>
          <p:nvPr/>
        </p:nvPicPr>
        <p:blipFill>
          <a:blip r:embed="rId1"/>
          <a:stretch/>
        </p:blipFill>
        <p:spPr>
          <a:xfrm>
            <a:off x="2500200" y="1143000"/>
            <a:ext cx="385776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428720"/>
            <a:ext cx="8229600" cy="1500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WATCH  TV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Picture 2" descr="C:\Documents and Settings\user\Мои документы\watch_TV-CT.gif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2214720" y="1000080"/>
            <a:ext cx="435744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1640"/>
            <a:ext cx="8229600" cy="1214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GO TO BED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Picture 2" descr="C:\Documents and Settings\user\Мои документы\go_to_bed-CT.gif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500200" y="1357200"/>
            <a:ext cx="40006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622440" y="5241960"/>
            <a:ext cx="8265960" cy="1689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1643040" y="785880"/>
            <a:ext cx="578664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57520" y="5215320"/>
            <a:ext cx="6572520" cy="107172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BRUSH MY HAI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Picture 2" descr="C:\Documents and Settings\user\Мои документы\brush_my_hair-CT.gif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357280" y="1071720"/>
            <a:ext cx="4500720" cy="3571560"/>
          </a:xfrm>
          <a:prstGeom prst="rect">
            <a:avLst/>
          </a:prstGeom>
          <a:ln w="25560">
            <a:solidFill>
              <a:srgbClr val="08509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4200" y="4929120"/>
            <a:ext cx="8229600" cy="10000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WASH MY FA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2" descr="C:\Documents and Settings\user\Мои документы\wash_my_face-CT.gif"/>
          <p:cNvPicPr/>
          <p:nvPr/>
        </p:nvPicPr>
        <p:blipFill>
          <a:blip r:embed="rId1"/>
          <a:stretch/>
        </p:blipFill>
        <p:spPr>
          <a:xfrm>
            <a:off x="2500200" y="928800"/>
            <a:ext cx="421488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1"/>
          <a:stretch/>
        </p:blipFill>
        <p:spPr>
          <a:xfrm>
            <a:off x="695160" y="5052960"/>
            <a:ext cx="8180640" cy="1920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C:\Documents and Settings\user\Мои документы\do_homework-CT.gif"/>
          <p:cNvPicPr/>
          <p:nvPr/>
        </p:nvPicPr>
        <p:blipFill>
          <a:blip r:embed="rId2"/>
          <a:stretch/>
        </p:blipFill>
        <p:spPr>
          <a:xfrm>
            <a:off x="1428840" y="714240"/>
            <a:ext cx="64292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00360"/>
            <a:ext cx="8229600" cy="1500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COOK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Picture 3" descr="C:\Documents and Settings\user\Мои документы\cook-CT.gif"/>
          <p:cNvPicPr/>
          <p:nvPr/>
        </p:nvPicPr>
        <p:blipFill>
          <a:blip r:embed="rId1"/>
          <a:stretch/>
        </p:blipFill>
        <p:spPr>
          <a:xfrm>
            <a:off x="1643040" y="1143000"/>
            <a:ext cx="52149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785840"/>
            <a:ext cx="8229600" cy="1357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DRIN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Picture 2" descr="C:\Documents and Settings\user\Мои документы\drink_fluid-CT.gif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143080" y="642960"/>
            <a:ext cx="49291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786200"/>
            <a:ext cx="8229600" cy="10000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EAT BREAKFA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Picture 2" descr="C:\Documents and Settings\user\Мои документы\eat_breakfast-CT.gif"/>
          <p:cNvPicPr/>
          <p:nvPr/>
        </p:nvPicPr>
        <p:blipFill>
          <a:blip r:embed="rId1"/>
          <a:stretch/>
        </p:blipFill>
        <p:spPr>
          <a:xfrm>
            <a:off x="2214720" y="785880"/>
            <a:ext cx="528624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4714560"/>
            <a:ext cx="8229600" cy="1609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EXERCISE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3" descr="C:\Documents and Settings\user\Мои документы\exercise-CT.gif"/>
          <p:cNvPicPr/>
          <p:nvPr/>
        </p:nvPicPr>
        <p:blipFill>
          <a:blip r:embed="rId1"/>
          <a:stretch/>
        </p:blipFill>
        <p:spPr>
          <a:xfrm>
            <a:off x="1928880" y="785880"/>
            <a:ext cx="4643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6T17:04:18Z</dcterms:created>
  <dc:creator>User</dc:creator>
  <dc:description/>
  <dc:language>en-US</dc:language>
  <cp:lastModifiedBy>Дом</cp:lastModifiedBy>
  <dcterms:modified xsi:type="dcterms:W3CDTF">2011-03-11T18:56:30Z</dcterms:modified>
  <cp:revision>16</cp:revision>
  <dc:subject/>
  <dc:title>               My day</dc:title>
</cp:coreProperties>
</file>