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096-8525-43E5-900F-FE488ABA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EAD-BB50-40E6-9DBE-F867D4CD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DF7-D3B7-4838-9ADA-0C3972BC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B2B-8895-46FF-9238-48DC9F02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8B58-B72C-4DB2-8E58-F8681DFF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9C66-898D-472A-A6B5-69495C1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6A83-76E9-4760-9E14-28468D19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4759-3D8D-48C4-836E-1B88ADA6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0645-11E9-4375-B10F-05A67E8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80F2-5C4B-4AF5-BBC4-C5F9DB4D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4338-E6AA-492C-A4EF-FF001589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360-41C8-47E9-9537-3E1C354D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CA2E-780A-469B-8FD7-B7FB3AE1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7522-3310-4474-A957-E21298A7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A6CB-60D9-4DC3-936E-E28A8E57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97C2-7F8C-4572-881F-24BD0DA1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087D-ACFF-4624-B355-DB0E3C96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B33-96CF-4076-AFFF-56CB655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E59-6E7B-4D09-BBB2-821B78D4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ACE-2153-4618-96C9-76B2C08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311-902D-423D-85FE-DA8FB52D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F03-9E68-4716-9EFE-8AFC167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9F5-67CC-4E09-AED1-D258CB02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041-9C3C-4508-A402-19AF4EE1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B31-821D-402A-9D14-2656F44FDF3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D996-D967-47F1-9A9B-7A79EA1DF70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ldiPn0ngxK0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diPn0ngxK0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hemi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Obser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l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nviron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ignifica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us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xpen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In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57200" y="457200"/>
          <a:ext cx="8229600" cy="5332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 things we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gerous things we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ngs we can do to protect n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3520" y="152280"/>
            <a:ext cx="807696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Ссылка на видеофрагмен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youtube.com/watch?v=ldiPn0ngxK0&amp;feature=relate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jo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для 10 класс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олетовой М.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pp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7-9 классов Клементьевой Т.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youtube.com/watch?v=ldiPn0ngxK0&amp;feature=relate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33526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4320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Ge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Eart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sio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72200" y="304920"/>
            <a:ext cx="3505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хими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блюд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логическ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етряс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ружающ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онечном итог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чительн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ный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держивающ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рос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обретательност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al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si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5105520" y="53352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410080" y="380880"/>
            <a:ext cx="914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Do you know how long these things last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raffic t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banana pe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l so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den sti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ainted wooden st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ax paper c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in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aluminum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lastic contai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lass bot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3581280" y="1523880"/>
            <a:ext cx="1828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mont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5486400" y="1828800"/>
            <a:ext cx="175752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mont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3581280" y="2362320"/>
            <a:ext cx="13050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year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5486400" y="2666880"/>
            <a:ext cx="159552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year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4952880" y="3200400"/>
            <a:ext cx="168588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 year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3962520" y="3657600"/>
            <a:ext cx="138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years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3"/>
          <p:cNvSpPr txBox="1"/>
          <p:nvPr/>
        </p:nvSpPr>
        <p:spPr>
          <a:xfrm>
            <a:off x="5562720" y="39625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 years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3962520" y="4419720"/>
            <a:ext cx="107604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5334120" y="4800600"/>
            <a:ext cx="2895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 to 500 years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3962520" y="548640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547560"/>
            <a:ext cx="8686800" cy="631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2590920" y="0"/>
            <a:ext cx="4047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ke word combin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What does Vernandsky's theory say about the Earth fu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838080" y="3352680"/>
            <a:ext cx="481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f the science guide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ociety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762120" y="4800600"/>
            <a:ext cx="6858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t would soften the human  environmental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What  does the bio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think about human imp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533520" y="4038480"/>
            <a:ext cx="83055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eople are clever enough t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 able to maintain the rates of progres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What are th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examples of human inte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with na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762120" y="35053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ission of carbon dioxid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762120" y="4495680"/>
            <a:ext cx="4190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lobal warming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762120" y="5334120"/>
            <a:ext cx="3504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tting forest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What will help people to lessen human impact 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838080" y="3352680"/>
            <a:ext cx="70246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erts say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ame inventivenes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at accelerate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uman developmen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914400" y="5334120"/>
            <a:ext cx="6477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an be used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soften human 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48:05Z</dcterms:created>
  <dc:creator>user</dc:creator>
  <dc:description/>
  <dc:language>en-US</dc:language>
  <cp:lastModifiedBy>123</cp:lastModifiedBy>
  <dcterms:modified xsi:type="dcterms:W3CDTF">2012-02-28T19:19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