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9.gif" ContentType="image/gif"/>
  <Override PartName="/ppt/media/image8.wmf" ContentType="image/x-wmf"/>
  <Override PartName="/ppt/media/image12.wmf" ContentType="image/x-wmf"/>
  <Override PartName="/ppt/media/WtchLaff.wav" ContentType="audio/x-wav"/>
  <Override PartName="/ppt/media/image7.wmf" ContentType="image/x-wmf"/>
  <Override PartName="/ppt/media/hersheyb.wav" ContentType="audio/x-wav"/>
  <Override PartName="/ppt/media/image11.wmf" ContentType="image/x-wmf"/>
  <Override PartName="/ppt/media/image6.wmf" ContentType="image/x-wmf"/>
  <Override PartName="/ppt/media/image10.wmf" ContentType="image/x-wmf"/>
  <Override PartName="/ppt/media/image22.gif" ContentType="image/gif"/>
  <Override PartName="/ppt/media/image5.wmf" ContentType="image/x-wmf"/>
  <Override PartName="/ppt/media/image3.wmf" ContentType="image/x-wmf"/>
  <Override PartName="/ppt/media/image2.jpeg" ContentType="image/jpeg"/>
  <Override PartName="/ppt/media/AuldLang.wav" ContentType="audio/x-wav"/>
  <Override PartName="/ppt/media/image4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7A6-F985-4CB6-A34B-BB0426C7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3BF-7979-49D4-81B2-64002817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A78-FA26-4173-B627-42FE9EC9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C3C-5BD9-4C18-B817-D1326703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BB10-6AAD-4185-89AC-99BFEE8F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50E1-F001-4866-AA91-A989D974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7DE5-15A7-4112-8292-0A84429C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D6DE-CCAA-4673-B355-A0060553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5F85-F7FA-47A1-AA18-A2AD65E0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292B-AA01-4708-9852-A0CBCEB5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A007-4D1F-43D2-863D-E58F9F66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911-79AF-43EA-AD56-29459E9B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85DE-AED2-492D-8DA4-95475A05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BF2C-FDC5-47FF-897B-E4AB250D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A356-AC32-43EB-80A1-E1988E5C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DAAC-CE39-460A-B931-3DDF4D47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11EB-425C-4E80-BE0F-13A0C8FF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21A-59AB-4B9F-ACA5-565890F5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9D1-B19A-46BC-BCF1-3F9D4CA9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579-2B1C-4EBC-BEDD-DB8430A0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99E-4D49-40FD-9D4A-7DC3351B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A1C-F294-4EB4-B0E1-D3C85F18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3A6-EBA5-4DE3-A0CE-12CF748E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C37-6CDB-46AC-81EE-8049AFB0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B116-AC85-4AF0-8BD3-3B59FB640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13E2-E3F6-480B-B22C-13F5C7B2631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WtchLaff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hershey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AuldLan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447560"/>
            <a:ext cx="6019920" cy="23619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Matura MT Script Capitals"/>
              </a:rPr>
              <a:t>Traditions and </a:t>
            </a:r>
            <a:br>
              <a:rPr sz="4800"/>
            </a:br>
            <a:r>
              <a:rPr b="0" lang="et-EE" sz="4800" spc="-1" strike="noStrike">
                <a:solidFill>
                  <a:srgbClr val="000000"/>
                </a:solidFill>
                <a:latin typeface="Matura MT Script Capitals"/>
              </a:rPr>
              <a:t>Customs in Great Britain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he London Maratho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e of the biggest marathons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Each year about 30,000 people start the race and about 25,000 fin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aise money for ch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78360" y="1981080"/>
            <a:ext cx="2691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May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Ma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pagan festival to celebrate the end of winter and welcome sum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ildren dance around the maypole and sing so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2219400"/>
            <a:ext cx="3733920" cy="363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helsea Flower Show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ritain’s most important flower and garden s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ousands of people come to see the prize flowers and specially built gard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03760" y="1981080"/>
            <a:ext cx="3040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Midsummer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June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ummer sols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stay up until midnight to welcome in midsummer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hen the fires die down, men run or jump through it to bring good lu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689120" cy="334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2103480" cy="173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rooping The Colour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second Saturday in J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elebrates the Queen’s official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Lots of marching, military music and the soldiers are dressed in colourful uni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48520" y="1981080"/>
            <a:ext cx="17524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Saint Swithin’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July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aint Swithin was England’s Bishop of Winche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40 days of bad weather will follow if it rains on thi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57800" y="1981080"/>
            <a:ext cx="19335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Wimbledo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week of July and the first week of J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t Wimbledon in South-West Lond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e of the four great world tennis championships and the only one which is played on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2070000"/>
            <a:ext cx="3733920" cy="393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Notting Hill Carnival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weekend in Augu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akes place in Notting H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dress up in fabulous costu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teel bands play African and Caribbean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Harvest Festivals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Septe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Christian festi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t was held to say thank you to God for a good harv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urches are decorated with fruit, vegetables and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2055960"/>
            <a:ext cx="3733920" cy="3965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Hallowee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ctober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pagan festival celebrates the return of the souls that visit their former ho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dress up as witches, ghost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ouses are decorated with pumpk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57800" y="2090880"/>
            <a:ext cx="3733920" cy="389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WtchLaff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000000"/>
                </a:solidFill>
                <a:latin typeface="Script MT Bold"/>
              </a:rPr>
              <a:t>Januar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Script MT Bold"/>
              </a:rPr>
              <a:t>New Year’s Day (Jan 1)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he beginning of the new year. People make re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Script MT Bold"/>
              </a:rPr>
              <a:t>Twelfth Night (Jan 6)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 party after the Christmas break and before the return to work in the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Guy Fawke’s Night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Novembe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e was a terro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day marks the discovery of a plot to blow up Parliament in 16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make models of him and burn them on big bonf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2433600"/>
            <a:ext cx="3733920" cy="3208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hristma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ligious ceremony commemorating the birth of Ch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ildren wake up early to find presents in their stock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raditional Christmas tree and di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419720" cy="2962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hersheyb.wav"/>
      </p:stSnd>
    </p:sndAc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Boxing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t is usually spent in front of the TV, recovering from Christma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ervants go from house to house with collecting bo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57800" y="278136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New Year’s Eve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raditionally Scottish celeb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t midnight everybody joins hands and sings Auld Lang Sy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57800" y="2529000"/>
            <a:ext cx="3733920" cy="301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AuldLang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rufts Dog Show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Febru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Valuable dogs from all over the world compete in Birmingh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best dog gets the title Crufts Supreme Champ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56360" y="2092320"/>
            <a:ext cx="3735360" cy="389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Saint Valentine’s Day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February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as started in the time of Roman Emp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s dedicated to St. Valen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send a card to someone they love, like, fancy or adm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99320" y="1981080"/>
            <a:ext cx="2449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he Boat Race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rowing race between the universities of Oxford and Cambri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 the river Thames in London (7,2 k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7800" y="2735280"/>
            <a:ext cx="3733920" cy="2604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Pancake Day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day before 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ancake race-running while holding a pancake in a frying pan. Competitors have to throw it in the air and catch it again in the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57800" y="2494080"/>
            <a:ext cx="3733920" cy="3089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April Fool’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pril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day of practical jo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You have to play the joke before 12 o’clock midday, otherwise the joke is on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221148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Good Fri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Friday before Ea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church marks the death of Ch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ritish usually eat hot-cross buns, which are marked on top with 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83400" y="1981080"/>
            <a:ext cx="26812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Easter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Apr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celebration of the Resurrection of Chr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chools are closed for two wee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give each other chocolate eggs that are wrapped in silver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81640" y="1447920"/>
            <a:ext cx="35337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6:17:02Z</dcterms:created>
  <dc:creator>kasutaja15</dc:creator>
  <dc:description/>
  <dc:language>en-US</dc:language>
  <cp:lastModifiedBy>powerful</cp:lastModifiedBy>
  <dcterms:modified xsi:type="dcterms:W3CDTF">2012-04-17T16:07:37Z</dcterms:modified>
  <cp:revision>21</cp:revision>
  <dc:subject/>
  <dc:title>Traditions and  Customs in Great Britain</dc:title>
</cp:coreProperties>
</file>