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DD5-CCE1-4649-BB80-16D95BB6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327-982A-49A2-BCC6-3617AA8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ABD-7E33-442A-A1D0-6E2CFC0D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AA5-7E68-4529-8945-E710D242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E804-FC55-4C2B-9D04-B41888F0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AB75-5DA2-4DF2-AD02-5A4C169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F945-E13E-4D22-9D88-39192898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D0A3-A620-4291-B383-1AEF451A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4C6-6548-4FC5-A6AB-BAE9AE1A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D69F-DA1B-4B98-8E13-8C83E990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7568-5D34-4368-A3A4-050A9C9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FAD-CC2A-43EA-9124-EA665522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06D-28D3-48BC-A3BF-CF00D50A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1FC6-06E8-446C-A3B5-7F0D088E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9D44-F5A6-41DD-8566-8781807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6642-7776-4A5C-81F8-9D3D1815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67DF-E700-4C2E-B84E-DA471518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F90-2132-4695-8E7D-EA6BDFF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9DB-DACF-4F07-8480-2158BBE0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8A8-3BCD-4C94-8FE5-09C16E0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1BA-1EAA-449C-965A-9A7AB3DA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7AA-7B9B-4D67-BDF6-172EC89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1BB-EC37-4212-98E2-E4369D3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218-A695-4CE6-B370-5EE8188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59B-A5D5-48C7-8D78-4F137C7D533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E076-0091-4BAD-88A5-A698D8C072F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s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ошедшее продолженное врем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на фоне другого действия в прошлом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, when dad came 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, когда вошел пап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в течение конкретного периода в прошлом (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at 6 o’clock yesterday, yesterday in the morning)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 at 7 o’clock yesterda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чера в 7 час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276280"/>
            <a:ext cx="56894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33cc"/>
                </a:solidFill>
                <a:latin typeface="Arial"/>
              </a:rPr>
              <a:t>Was\were</a:t>
            </a:r>
            <a:r>
              <a:rPr b="0" lang="en-US" sz="5600" spc="-1" strike="noStrike">
                <a:solidFill>
                  <a:srgbClr val="292929"/>
                </a:solidFill>
                <a:latin typeface="Arial"/>
              </a:rPr>
              <a:t> + </a:t>
            </a:r>
            <a:r>
              <a:rPr b="0" lang="en-US" sz="56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600" spc="-1" strike="noStrike" baseline="-25000">
                <a:solidFill>
                  <a:srgbClr val="ff9900"/>
                </a:solidFill>
                <a:latin typeface="Arial"/>
              </a:rPr>
              <a:t>ing</a:t>
            </a:r>
            <a:endParaRPr b="0" lang="en-US" sz="5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8936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question, when the teacher was asked for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15772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USA, when his sister got married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бщий вопрос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3141720"/>
            <a:ext cx="61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 his homework, when the phone rang up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5002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ица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3141720"/>
            <a:ext cx="237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is homework, when the phone rang up.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</cp:lastModifiedBy>
  <dcterms:modified xsi:type="dcterms:W3CDTF">2007-10-30T09:08:40Z</dcterms:modified>
  <cp:revision>26</cp:revision>
  <dc:subject/>
  <dc:title>The Present Perfect Tense</dc:title>
</cp:coreProperties>
</file>